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F4E-9D7A-455B-9324-A65BE561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0A3-F079-4812-8FC4-CA879304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1AA-DDFF-4504-AA39-88110C31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509-1C9C-4096-B8FC-EED2FCA0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4445-5F92-4660-8382-BE69DC05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4C5-D3F4-4F9C-A0AE-22A6D019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353D-1812-4BF7-97BE-55BEE3BF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245-7436-4B7B-A385-4BDEA66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2D9-96B4-49B1-8E1D-5217EF4E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B12C-5DF4-4043-99A6-4C7777D3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C74D-C8A0-4E54-88D4-A4AD90D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5BD-B0FA-4DE8-BE52-5BD5D30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823-4259-4170-824F-6432695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19BB-03FF-4C05-80AA-3F07BAF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074-57E0-48FC-A629-01C9516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9F35-3D99-4A64-A6F5-D0EC9FA3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6DC-6A9D-46DF-B74A-7AA46F64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611-295B-4931-84A2-B63F86B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2B2-F8B6-406B-9685-331DD7C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2A7-60F2-459E-9177-160951C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884-ED22-4784-8BC5-C89E5B7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5ED-B212-455D-ACAE-991C764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EDC-567B-4687-AD95-4B49547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8A0-69EC-400D-B168-BB524E5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B51-2CBD-4402-828B-D5A3E9339F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C707-A778-48DB-A080-3DA0E42B1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721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Arial Black"/>
              </a:rPr>
              <a:t>Intonation und </a:t>
            </a:r>
            <a:br>
              <a:rPr sz="4800"/>
            </a:br>
            <a:br>
              <a:rPr sz="4800"/>
            </a:br>
            <a:r>
              <a:rPr b="0" sz="4800" spc="-1" strike="noStrike">
                <a:solidFill>
                  <a:srgbClr val="000000"/>
                </a:solidFill>
                <a:latin typeface="Arial Black"/>
              </a:rPr>
              <a:t>Informationsstruktu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5720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uptsemina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WS 2001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onatorische und semantische Aspekte der Informations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) Hervorhebungen von Silben auf Äußerungsebene (post-lexikalisch, konkret) = 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acc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4 Stuf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ein Akz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ruckakzent (Silbe ist lauter u. länger als eine unakz. Sil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nakzent (zusätzliche Tonbewegung auf oder in direkter Umgebung einer druckakzentuierten Sil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erimente Fry (1955, 1958), Isacenko/Schädlich (1966) für das Englische u. Deutsche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rameter Grundfrequenz für die Wahrnehmung von Akzentuiertheit am wichtigsten (gefolgt von Dauer und Intensitä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klearer Tonakzent (letzter Tonakzent einer Tongruppe/Intonationsphra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2057400"/>
          <a:ext cx="9144000" cy="287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85800" y="5334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htung: Tonakzente sind nicht immer hoch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ritische Sch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.a. Halliday (1967), Crystal (196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chreibung zusammenhängender (holistischer) Konturen (fallend, steigend, fallend-steigend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onationseinheit: Tongruppe (Tone Group), eingeteilt in Prehead, Head, Nukleus, 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ritische Sch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2133720"/>
          <a:ext cx="9144000" cy="333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Britische Schu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sonderer Status des Nukleu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rukturell: einzig obligatorisches Element, Träger des Hauptakzents u. der phonologisch distinktiven Tonbeweg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mantisch: kommunikativ wichtigstes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.a. Pierrehumbert (198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komponierung von Intonationskonturen in Ton-Sequenz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ehrere unabhängige Ebenen mit eigenständigen Elementen (-&gt; „Autosegmente“), z.B. Tonebene, metrische Ebene, Textebene; verknüpft über Assoziationsprinzip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Vorteil gg. Britischer Schule: tonale Information ist präzise auf bestimmten Silben (nicht nur dem Nukleus) lokalisier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Toninventar: zusammengesetzt aus H(igh) und L(ow) Tö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3 Tontypen: Tonakzente, Phrasenakzente, Grenztö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Tonakz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ervorhebung vo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ssoziation von Tönen mit lexikalisch starken (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tresse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Silben (markiert durch *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no- (z.B. L*) oder bitonal (z.B. L+H*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ukleus = letzter Tonakzent (kein besonderer funktionaler Stat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Phrasenakz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eschreibung des Tonverlaufs zw. Nukleus u. Grenze (monotonal); markiert durch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oft mit postnuklearen Prominenzen assozi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Grenztö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Phrasierungsfunk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mit Grenzen von Intonationsphrasen assoziiert (nicht mit lex. starken Silben),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kiert durch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Phonetik der Intonation / Akzentu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eschreibungsmodelle: Britische Schule u. Autosegmental-Metrische Phon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Funktionen von Into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Intonation und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Focus-to-Accent”-Ansät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Metrischer Ansa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*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*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-L%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D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it    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now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*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*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-L%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  Her  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mo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her is a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law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tosegmental-Metrische Phonolog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676520"/>
          <a:ext cx="89154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9154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GOLDMINE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268880" y="6172200"/>
          <a:ext cx="30312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6172200"/>
                    <a:ext cx="3031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unktionen von Into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ra- u. extralinguistis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motionen, Einstellungen, soziale Mark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inguistis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terscheidung von Satzmodi (zus. mit Wortwahl u. Wortstellung), z.B. Frage vs. Au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nterscheidung von Illokutionen (Absicht des Sprechers unabhängig vom Satzmodus), z.B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Warum ziehst du nicht nach Kaliforni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unktionen von Into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ortbedeutung in Tonsprachen, z.B. Mandarin: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ma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gleichbleibend = Mutter, steigend = Hanf, fallend = schimpfen, fallend-steigend = Pfe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rasierung, z.B. [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Der Mensch denk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,] [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Gott lenk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] vs. [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Der Mensch denkt, Gott lenk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yntaktische Disambiguierung, z.B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John has directions to FOLlow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s.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 John has diRECtions to fo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rkierung der Informationsstrukt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Intonation und 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legende Annahme: Akzente signalisieren Fokus (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- Foreground) =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cus-to-Accent (FTA)-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wei Variant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adikal (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highlighting-base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rmal (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structure-base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Radik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eziehung Akzent-Fokus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Foreground) ist bidirektional u. unive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kzentposition ist nicht vorhersagbar, nur abhängig von Absichten des Sprechers u. dem Äußerungskontext (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Pragmati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kussiert und damit hervorgehoben werde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einzelne Wörte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u. keine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Bereiche/größere Konstitu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Radik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Hauptvertreter: Bolinger (z.B. 1958, 1972, 1985, 198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sp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: I don´t see John around anywhere - where did he g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: I don´t know WHERE he w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The governing fact [...] is not the logic of predictability in particular or information in general, but the way the speaker feels about what he has in mind. Logic counts, but indirectly” (Bolinger 1989:23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Radik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2 Funktionen von Akzent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accent of interest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semantisch-pragmatisch): informativstes Element erhält Akz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accent of power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mechanisch)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wenn Elemente gleich informativ sind, fällt der (primäre) Akzent ans Ende (und ein sekundärer Akzent an den Anfang)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z.B. ONE, two, three, four, </a:t>
            </a:r>
            <a:r>
              <a:rPr b="1" sz="2800" spc="-1" strike="noStrike">
                <a:solidFill>
                  <a:srgbClr val="000000"/>
                </a:solidFill>
                <a:latin typeface="Tahoma"/>
              </a:rPr>
              <a:t>FIVE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Radik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olinger versteht Akzentuierung als ein graduelles Phänomen, das mit dem Grad an kommunikativer Wichtigkeit 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für den Sprecher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korrespondiert (Primär- u. Sekundärakzente);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 die Akzentposition ist aus der Struktur der Äußerung bzw. über Regeln nicht vorhersagbar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honetik der Into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Intonation im engeren Sinne: “Sprachmelodie”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onhöhenbewegung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Intonation im weiteren Sinn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=Prosodi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nhöhenbewegungen und –umfa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rasierung (Gliederung in sprachliche Einheiten, inkl. Paus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robleme des radikalen FTA-Ansat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idirektionale Definition Akzent - Fokus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-Foreground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führt zu zirkulärer Arg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Keine Unterscheidung zwischen engem Fokus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-Foreground) u. weitem Fokus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robleme des radikalen FTA-Ansat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sp. nach Chomsky (1971)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John (was warned (to look out for (an ex-convict (with (a red ( SHIRT ))))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kzent auf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shirt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ist ambig im Hinblick auf die Ausdehnung des Fokusbereichs (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robleme des radikalen FTA-Ansat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ei weitem Fokus findet Fokusprojektion (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-Projektion) statt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John was warned to look out for an ex-convict with a red SHI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shirt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ist hier Fokusexponent (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-Foreground = phonologischer Fokus) eines größeren Fokusbereichs (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= semantischer Fok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robleme des radikalen FTA-Ansat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ei engem Fokus besteht der Fokusbereich nur aus einem Element, d.h.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u.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-Foreground fallen zusammen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John was warned to look out for an ex-convict with a red ( SHIRT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Unterschied nicht zu erklären bei 1:1-Beziehung von Fokus u. Akz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robleme des radikalen FTA-Ansat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in Akzent auf jedem anderen Wort markiert engen Fokus (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-Foreground) , z.B.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John was warned to look out for an ex-convict with a ( RED ) sh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Form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kussiert werden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(größere) Konstituenten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tatt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 einzelner Wörter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(bei weitem Fokus; kein Unterschied zu radikaler Variante bei engem Foku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estimmung der Fokusbereiche (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 unabhängig von der Akzentverteil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prachspezifische Regularitäten statt Universalitätsanspru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Form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kzentposition zu einem gewissen Grad vorhersagbar, über semantisch-syntaktische Regeln einer Spr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Vertreter: z.B. Gussenhoven (SAAR), Selkirk (Basic Focus Rule, Phrasal Focus Ru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Gussenhovens (1983, 1999)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Sentence Accent Assignment Rule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(SA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Domain assignment: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(X)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 P (X) A ]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(X)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 A (X) P ]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Y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 Y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ccent assignment: [ ]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 * ]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in AP / PA, accent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underlining: [+focus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=Argument (subject, internal verbal complements) P=Predicate (verbs, predicate nominals and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djectives)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M=Modifier (adverbials, other adjuncts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X,Y=any of A,P,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Form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*P]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Our DOG´s disappeared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M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*] [M*] [P*]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Our DOG´s] [misTERiously] [disapPEARED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*MP]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modifier is given)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Our DOG´s misteriously disappeared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Formaler FTA-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P*A]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He BEATS he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A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PA*]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He teaches linguIStic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M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P*] [M*]  [He TEAches] [in GHAna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honetik der Into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kzentsetzung (Hervorhebungen auf Äußerungsebe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ortbetonung (Hervorhebungen auf Wortebe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ythmus (Verhältnis von prominenten und nicht-prominenten Silb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o (Sprechgeschwindigke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Def. “Argument”: Leerstelle eines Prädikats (syntaktische Valenz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emantisch: kann in verschiedenen thematischen Rollen auftreten, z.B. Agent, Object (Thema), Source, Goal, Location,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yntaktisch: kann in verschiedenen Funktionen auftreten, z.B. Subjekt (externes Arg.), Objekt, Adverbial, Prädikativ (interne Arg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Schmerling (1976): Argumente werden stärker akzentuiert als Prädikate, z.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ahoma"/>
              </a:rPr>
              <a:t>JOHN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son d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inschränkung: gilt nur für “news sentences” (bestehen nur aus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, Kontext: Tod des Präsidenten kam überrasch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„topic-comment sentences“ (T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 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 erhalten sowohl „topic“ als auch „comment“ einen Akzent, wobei der erste Akzent schwächer ist als der zweite, z.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RUman 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DIED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ntext: Über den schlechten Gesundheitszustand des Präsidenten wurde seit Tagen berichtet, d.h.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Truma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st „given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Gussenhov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[JOHNson died]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A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*P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[Truman DIED]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[AP*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Unterschied zu Schmerling: kein (sekundärer) Akzent auf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Truman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Boling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[JOHNson died]: Substantive haben größeres semantisches Gewicht / sind informativer als Verb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[Truman DIED]: Der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Tod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Trumans ist für den Sprecher die wichtigste Au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ei gleichem semantischen Gewicht sind Akzente auf Argument u. Prädikat gleich wahrscheinli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t´s too heavy a PRICE to p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t´s too heavy a price to P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Sind Argumente universal stärker akzentuiert als Prädikate (bei weitem Fokus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talienisch (generell SVO)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Ho un libro da LEGgere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Präd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   (lit. ich habe ein Buch zu les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Bengali (SOV): Ram Shamoli DEKHlo.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Präd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lit. Ram Shamoli sa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Türkisch (SOV): Eski müdür bir KItap yazdi.  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(lit. ehemaliger Direktor ein Buch schrieb)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A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Entscheidungs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Dt.: Hat sie ein BUCH gekauft?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A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ngl.: Did she buy a BOOK?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A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Russisch: Ona KUpila knigu?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Präd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lit. sie kaufte Buch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rgumente vs. Prädik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ber in Deklarativsätzen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Ona kupila KNIgu.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Arg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lit. sie gekauft Bu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Hinweis auf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sprachspezifische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Unterschiede in Prädikat-Argument-Struktu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pricht für formalen FTA-Ansa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Modifikator-Kopf-Struktu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Postulat: Akzent fällt auf das am weitesten rechts stehende Element </a:t>
            </a: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universal gülti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Deutsch: die heutige JUgend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vs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die Jugend von HE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ngl.: He talked to my FA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wahili:    baba    YANgu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(lit. father    m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Modifikator-Kopf-Struktu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ngl.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: How much did they pay you for participating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in the experiment?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B: Five MA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kzent auf Währung, obwohl voraussag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Dagegen im Ungarischen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Frage: Wieviel hast Du dafür bekommen?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ntwort: SZÁZ ötven  forintot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  ´150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 Forint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Phonetik der Into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841400"/>
          <a:ext cx="792504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1400"/>
                    <a:ext cx="79250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Modifikator-Kopf-Struktu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Nach Boling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m Ungar.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accent of interest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(das informativste Element wird hervorgehoben, die Währung ist vorhersagb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m Dt./Engl.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accent of power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(Akzent ans En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Der 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Unterschied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zwischen den Sprachen ist für den radikalen FTA-Ansatz nicht zu erklä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De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Deakzentuierung bekannter Information gilt als universales Prin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ngl.: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A: I found an article for you in a German journal. B: I don´t READ Germ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ber keine Deakzentuierung z.B. im indischen Englisch (Gumperz 1982)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If you don´t give me that CIgarette I will have to buy a CIgaret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De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talienisch: (Kontext: Präsident Scalfaro zu Untersuchungen in einem Korruptionsskandal)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[le inchieste] servono a mettere a POSto cose andate fuori POSto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´the investigations are helping to put back in ORder things that have got out of ORder.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eher Variation der Wortstellung als des Akzentmusters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Problem für radikalen FTA-Ansa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De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Semantisch leere Konstitu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Indefinitpronomen (in germanischen Sprachen), z.B.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Ich habe jemanden beLOgen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vs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 Ich habe meinen besten FREUND belo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De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emantisch leere Inhaltswörter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      He was arrested because he KILled a man.   vs. He was arrested because he killed a poLICEm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ber im Italienischen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... perche ha ucciso un UOmo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vs.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... perche ha ucciso un poliZIO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De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nnahme, daß das relative semantische Gewicht (eng verwandt mit kognitivem Status)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entscheidend für die Wahl der Akzentposition ist, basiert auf </a:t>
            </a:r>
            <a:r>
              <a:rPr b="0" i="1" sz="2800" spc="-1" strike="noStrike">
                <a:solidFill>
                  <a:srgbClr val="000000"/>
                </a:solidFill>
                <a:latin typeface="Tahoma"/>
              </a:rPr>
              <a:t>englischen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Sprachdaten (Bolinger, Chafe, Prince, Gund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Take any language: English, for example” 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prachspezifische (syntaktisch-semantische) Strukturen sind u.U. entscheid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Äquivalente zu Akzen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zept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pitch accen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gilt nicht als universales Phä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ige Tonsprachen erzielen Highlighting- Effekte durch Veränderungen der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pitch rang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z.B. Chinesisch, Japanis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der durch bestimmte Phrasierungen (z.B. Koreanis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Dephras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 Koreanis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[satšun-enni] [irimi] [mweni]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(lit. Cousine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Name    w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[satšun-enni irimi]   [suni-dži]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 (lit. Cousine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Name    Su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alogie zu Deakzentuierung: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st der Kern in der Frage in A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alisiert als eigene Phrase; in B ist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kontextuell gegeben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keine eigene Phrase (“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phrasierung“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.B. Ladd (199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ostulat: Fokus wird nicht durch Akzente markiert, sondern durch die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relative metrische Stärk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der Konstitu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tress-firs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 vs.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accent-first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 Ansatz (Selkirk 1984):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tres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wird hier als konkrete Hervorhebung verst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rstellung: metrische Gitter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3429000"/>
            <a:ext cx="784872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kl. Tonakz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nakz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uckakz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        x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x  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reduz. Sil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        x     x     x       x     x   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lb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ve   marks  and   a   cup    of  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berlin1" descr=""/>
          <p:cNvPicPr/>
          <p:nvPr/>
        </p:nvPicPr>
        <p:blipFill>
          <a:blip r:embed="rId1"/>
          <a:srcRect l="3875" t="3705" r="774" b="2467"/>
          <a:stretch/>
        </p:blipFill>
        <p:spPr>
          <a:xfrm>
            <a:off x="304920" y="228600"/>
            <a:ext cx="8458200" cy="58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268880" y="6248520"/>
          <a:ext cx="30312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6248520"/>
                    <a:ext cx="3031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.. oder metrische Bäu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00200" y="2590560"/>
            <a:ext cx="5791320" cy="1738800"/>
            <a:chOff x="1600200" y="2590560"/>
            <a:chExt cx="5791320" cy="1738800"/>
          </a:xfrm>
        </p:grpSpPr>
        <p:grpSp>
          <p:nvGrpSpPr>
            <p:cNvPr id="216" name=""/>
            <p:cNvGrpSpPr/>
            <p:nvPr/>
          </p:nvGrpSpPr>
          <p:grpSpPr>
            <a:xfrm>
              <a:off x="3200400" y="2590560"/>
              <a:ext cx="1752480" cy="373680"/>
              <a:chOff x="3200400" y="2590560"/>
              <a:chExt cx="1752480" cy="37368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3200400" y="2590560"/>
                <a:ext cx="838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38480" y="2590920"/>
                <a:ext cx="91440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66880" y="3017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3017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952880" y="3443760"/>
              <a:ext cx="1752480" cy="373680"/>
              <a:chOff x="4952880" y="3443760"/>
              <a:chExt cx="1752480" cy="37368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4952880" y="3443760"/>
                <a:ext cx="838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90960" y="3444120"/>
                <a:ext cx="91440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828800" y="3443760"/>
              <a:ext cx="1752480" cy="373680"/>
              <a:chOff x="1828800" y="3443760"/>
              <a:chExt cx="1752480" cy="37368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1828800" y="3443760"/>
                <a:ext cx="838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66880" y="3444120"/>
                <a:ext cx="91440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600200" y="386964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  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w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219320" y="4419720"/>
            <a:ext cx="6705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ve               marks and a   cup    of         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TE DTE = Designated Terminal Element = prominentestes Element der Domäne (nur von s-Knoten domini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orte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klärung für Sekundärakzente (keine kategorische Entscheidung akzentuiert - unakzentuie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klärung für Prominenzen im T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(Ladd: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Accent without Focu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; vereinbar mit dem Phänomen früher Akzente in Intonationsphrasen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Shattuck-Hufnagel et al. 199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klärung für postnukleare Prominenzen (Druckakzente) als Fokus (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-Marker (Ladd: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Focu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without Accen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Bill says you haven´t helped on his project very mu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: I don´t know what he´s complaining about. I wrote an entire PROgram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s DTE der Phrase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for h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Bill seems to think you´ve been given priority to other people in the depar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: I don´t know what he´s complaining about. I wrote an entire PROgram fo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hi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him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als DTE der Phrase </a:t>
            </a: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for h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dd: Fokus (Rheme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-Foreground) wird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in erster Lini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durch die Plazierung des DTE in einer ip markiert, das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dan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fast immer durch einen (primären) Akzent realisiert wird (denn jede ip hat einen Akzent!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stress-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kzentuierung u. enger Fokus leicht darstellbar durch Umkehrung von Ä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76520" y="3124080"/>
            <a:ext cx="5790960" cy="1619280"/>
            <a:chOff x="1676520" y="3124080"/>
            <a:chExt cx="5790960" cy="1619280"/>
          </a:xfrm>
        </p:grpSpPr>
        <p:grpSp>
          <p:nvGrpSpPr>
            <p:cNvPr id="240" name=""/>
            <p:cNvGrpSpPr/>
            <p:nvPr/>
          </p:nvGrpSpPr>
          <p:grpSpPr>
            <a:xfrm>
              <a:off x="3276720" y="3124080"/>
              <a:ext cx="1752480" cy="337680"/>
              <a:chOff x="3276720" y="3124080"/>
              <a:chExt cx="1752480" cy="33768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3276720" y="3124080"/>
                <a:ext cx="83808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3124080"/>
                <a:ext cx="91440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743200" y="35103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3510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029200" y="3896280"/>
              <a:ext cx="1752480" cy="337680"/>
              <a:chOff x="5029200" y="3896280"/>
              <a:chExt cx="1752480" cy="3376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5029200" y="3896280"/>
                <a:ext cx="83808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7280" y="3896280"/>
                <a:ext cx="91440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905120" y="3896280"/>
              <a:ext cx="1752480" cy="337680"/>
              <a:chOff x="1905120" y="3896280"/>
              <a:chExt cx="1752480" cy="33768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1905120" y="3896280"/>
                <a:ext cx="83808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200" y="3896280"/>
                <a:ext cx="91440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676520" y="428364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  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s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9528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ve               marks and a   cup    of          coffe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blem: mehrfacher Fok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 didn´t give him SEven GUILders, I gave him FIVE MA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jeweils zwei gleich starke Akzente; syntagmatische Prominenz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relatio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mit metrischen Bäumen schlecht auszudrüc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attdessen: Markierung durch unterschiedliche Akzenttypen bzw. -formen (z.B. L* vs. H*)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paradigmatisch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oder durch Phrasierung </a:t>
            </a:r>
            <a:r>
              <a:rPr b="0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syntagma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hrasierung und Akzentu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jede ip hat ein DTE (= in der Regel realisiert durch einen Primärakz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            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 [JOHNson died]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D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133720" y="36572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657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514600"/>
            <a:ext cx="784872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[[Former President JOHNson] [unexpectedly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E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oday]]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371600" y="2133360"/>
            <a:ext cx="5943600" cy="1829160"/>
            <a:chOff x="1371600" y="2133360"/>
            <a:chExt cx="5943600" cy="1829160"/>
          </a:xfrm>
        </p:grpSpPr>
        <p:sp>
          <p:nvSpPr>
            <p:cNvPr id="262" name=""/>
            <p:cNvSpPr/>
            <p:nvPr/>
          </p:nvSpPr>
          <p:spPr>
            <a:xfrm flipV="1">
              <a:off x="1371600" y="365796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365796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057400" y="29718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43200" y="2972160"/>
              <a:ext cx="838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486400" y="36579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9920" y="365796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019920" y="2895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24480" y="2895840"/>
              <a:ext cx="9907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743200" y="2133360"/>
              <a:ext cx="1828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1337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Verknüpfung von Fokus (oder Foreground ?) und Akzent ist abhängig von der Aufteilung einer Äußerung in 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intermediate phrases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(ips) = Akzentdomä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[DOGS must be carried] = 1 ip = 1 (Primär-) Akz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[DOGS] [must be CARried] = 2 ips = 2 (Primär-) Akz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berlin2" descr=""/>
          <p:cNvPicPr/>
          <p:nvPr/>
        </p:nvPicPr>
        <p:blipFill>
          <a:blip r:embed="rId1"/>
          <a:srcRect l="2726" t="2703" r="0" b="4055"/>
          <a:stretch/>
        </p:blipFill>
        <p:spPr>
          <a:xfrm>
            <a:off x="533520" y="457200"/>
            <a:ext cx="815328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268880" y="6172200"/>
          <a:ext cx="30312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6172200"/>
                    <a:ext cx="3031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keine Frage “Argument vs. Prädikat”, sondern “eine Akzentdomäne vs. zwei”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je “schwerer” eine Konstituente ist, desto eher bildet sie eine eigene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honologisch schwer: Lä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emantisch schwer: „Eigenständigkeit“, Kontrast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trischer Ansatz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ösung für mehrfachen Foku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[I didn´t give him SEven] [GUILders]...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zwei Akzentdomä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erlin3" descr=""/>
          <p:cNvPicPr/>
          <p:nvPr/>
        </p:nvPicPr>
        <p:blipFill>
          <a:blip r:embed="rId1"/>
          <a:srcRect l="2802" t="2743" r="0" b="2738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268880" y="6172200"/>
          <a:ext cx="30312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6172200"/>
                    <a:ext cx="3031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Arial Black"/>
              </a:rPr>
              <a:t>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zu unterschei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a) Hervorhebungen von Silben auf Wortebene (lexikalisch, abstrakt) = 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stress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(primär od. sekundär)   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 ’Bundes,kanzler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3200" spc="-1" strike="noStrike">
                <a:solidFill>
                  <a:srgbClr val="000000"/>
                </a:solidFill>
                <a:latin typeface="Tahoma"/>
              </a:rPr>
              <a:t>,Bundes’grenzschutz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7:42:43Z</dcterms:created>
  <dc:creator>Institut für Phonetik</dc:creator>
  <dc:description/>
  <dc:language>en-US</dc:language>
  <cp:lastModifiedBy>Stefan Baumann</cp:lastModifiedBy>
  <cp:lastPrinted>2001-12-06T09:27:16Z</cp:lastPrinted>
  <dcterms:modified xsi:type="dcterms:W3CDTF">2001-12-06T18:52:26Z</dcterms:modified>
  <cp:revision>57</cp:revision>
  <dc:subject/>
  <dc:title>Intonation und   Informationsstruktur</dc:title>
</cp:coreProperties>
</file>