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48C-63A3-4C47-9224-3DF154E5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E71-18E8-45F6-AD1E-C7D83AC3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B8F-6FDD-450F-9C90-D522C5C0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7B5-03EB-49CB-9AFA-5EAFD72F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A010-09CE-4220-9882-0A177D0D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844E-503A-4482-95C4-C7B4DF88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43C1-B21B-4A4B-B7FE-79C9837D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1C38-9300-4183-AFEC-2985B2B0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5E68-0A6A-4388-B83D-3CBF6019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DA8C-5749-4086-AF71-BE8D35EF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E4CE-C918-4EF4-9E88-BAEA2F08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BDC-66CF-401F-8640-8778640F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E9D2-7502-4A91-8185-676A7E5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B0C5-2872-4BBF-9EC7-23C8C0F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0608-44D8-41C5-9841-AFE355A2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6296-7606-4E1E-8590-9A3745B2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9E44-509A-4415-99F1-E6313DB6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B13-76A2-4B41-9489-CCECC458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FA7-FEFE-4CE7-9025-F806FBF8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B29-0DE6-420A-8980-91F230EC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F7F-E989-423B-9006-54202E19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076-9546-46BD-9205-A7731953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3F9-ECD1-47E2-B767-A10385B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B8C-7074-4245-80E6-4E04BCAB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90F0-AE47-4CBE-A436-66C2CFAB36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3247-2497-4715-888B-BB2CD572DC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Realisierung und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nterpretation der IS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m Deutsch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1760" y="4343040"/>
            <a:ext cx="78483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uptseminar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WS 2001/0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onatorische und semantische Aspekte der Informationsstruktu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kusprojek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5341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SONne sche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KIND ist hingefallen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nicht-agentive Subjekte (interne Argumente) fungieren als 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kusprojektionsregel 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einer Struktur [ 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] oder [ 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], in de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rgument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t, fungiert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ls Fokusexponent, wenn es das am weitesten rechts stehende interne Argument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kusprojek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okusprojektionsregel I gilt für Sätze und VPs, aber nicht für die interne Struktur von N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heutige JUgend  vs.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e Jugend von HE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flüssiges LeNOR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 vs.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Lenor FLÜS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kusprojektionsregel I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einer Struktur [ 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] oder [ 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... ], in de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er Kopf der Phrase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ein Modifikator ist, ist immer die letzte der beiden Konstituenet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der Fokus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kusprojek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dingungen für maximale Fokusprojek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1. „Normale Lineare Ordnung“ (NLO) muß gegeben sein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Bsp: Verbendstellu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‘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57200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PP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XP               XP            Prädik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j.     Adv.I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Adv.II         Objek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dv.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dikat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kus-Posi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3429000"/>
            <a:ext cx="1524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90720" y="3429000"/>
            <a:ext cx="21333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3429000"/>
            <a:ext cx="12189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047760" y="3886200"/>
            <a:ext cx="1600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19360" y="3886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886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638680" y="4191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41911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5143320" y="4610160"/>
            <a:ext cx="152640" cy="2666880"/>
          </a:xfrm>
          <a:custGeom>
            <a:avLst/>
            <a:gdLst>
              <a:gd name="textAreaLeft" fmla="*/ 0 w 152640"/>
              <a:gd name="textAreaRight" fmla="*/ 55080 w 1526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kusprojek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2. Fokusexponent muß das stärkste Element im Satz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kusexponentenhierarchie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angelehnt an Phebys (1980) Rhematische Hierarchie)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dv. III &lt; Subj. &lt; Verb &lt; Verb- &lt; Adv.II &lt; Adv.I &lt; Objekte &lt; Prädikativ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temp.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 agent.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    Zusatz   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instr.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dir.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+ nicht-agent.            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kaus.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lok.      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ubj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hrfache 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: Was gibt´s Neu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 a: [Karl will morgen nach BerLIN fahren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 b: [KARL] [will MORgen] [nach BerLIN fahren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de Sätze vollständig fokussiert, a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: Fokusprojektion über ganzen Satz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integrierende Akzentuier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: drei Akzentdomänen, Fokusprojektion blockiert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isolierende Akzentuierung       (Fuchs 197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hrfache 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ahl zwischen integrierender u. isolierender Akzentuierung ist teils frei (z.B. durch Sprechtempo bestimmt), teils nich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: Warum ist Maria sau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: Weil sie [ihren FREUND] [beNEIdet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solierende Akzentuierung ist für weite Fokus-Lesart obligatoris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ehrfache Akzentuieru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leicher Effekt bei Abweichung von der N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: Ich habe [aus WUT] [eine FENSterscheib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geschlagen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: Ich habe [eine FENSterscheibe] [aus WUT]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[EINgeschlagen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hmann: für weite Fokus-Lesart kann entweder isolierende oder integrierende Akzentuierung obligatorisch sein                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Akzentdomänen-Bildung ist grammatisches und kein (ausschließlich) realisationsphonologisches Phäno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Wohlgeformtheit einer I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) Eine Konstituente mit einem Akzentton ist prominenter als eine Konstituente ohne Akzentton (mind. 3 Schlä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) Bei isolierender Akzentuierung ist die am weitesten rechts stehende Konstituente prominenter als die übrigen Akzentton-Konstituenten (Nuclear Stress Rule) (4 Schlä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i weitem Fokus muß der Fokusexponent (bei engem Fokus die Fokuskonstituente) die prominenteste Konstituente der Intonationsphrase se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Wohlgeformtheit einer I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* [KARL] [will MORgen] [nach Ber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L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] [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Tahoma"/>
              </a:rPr>
              <a:t>FAH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n]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r</a:t>
            </a: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L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= Fokusexponent,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Tahoma"/>
              </a:rPr>
              <a:t>FAH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ren = letzte Konstitue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akultative isolierende Akzentuierung ist nur bis zum FE (= Nukleus) zulässi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Akzente im Theme</a:t>
            </a:r>
            <a:r>
              <a:rPr b="0" i="1" lang="de-DE" sz="4000" spc="-1" strike="noStrike" baseline="-25000">
                <a:solidFill>
                  <a:srgbClr val="000000"/>
                </a:solidFill>
                <a:latin typeface="Arial Black"/>
              </a:rPr>
              <a:t>is</a:t>
            </a: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: Was schenkt Xenja ihrer Mutter zum Geburtstag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: [XENja] [schenkt ihrer MUTter] [einen FERNseher]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[              Theme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] [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heme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is              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: Wer schenkt ihrer Mutter einen Fernseher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* A: [XENja] [schenkt ihrer MUTter] [einen FERNs.]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[Rheme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] [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me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is                                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-Akzente sind nur bis zum FE (= Nukleus) zulässi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Überbli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tzung 10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odelle zur Beschreibung der IS im Deutschen durch Intonation und Wortstellu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tzung 1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nwendung der Modelle auf konkrete Beispi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Aufbau des Intonationsmode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-Struktur (+Argumentstruktur) (+F-Zuweisu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kusprojektionsregeln (Bestimmung des Fokusexponent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-Struktur (+Akzentton-Zuweisu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trische Reprä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nale Repräsentation (Intonations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ninvent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hrasierungsregeln = Akzentdomänenbild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ext-Melodie-Verbindungsregel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tonationsstruktur (Phonologische Repräsen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rm der Akzenttö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icht nur die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Positio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der Akzente, auch ihre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Form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markiert die IS einer Äuß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hmann: Topik (T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-Akzente: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*+H, L*, (H*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okus (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-Akzente: H* od. H*+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F: Was schenkt Xenja ihrer Mutter zum Geburtsta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A: [XENja] [schenkt ihrer MUTter] [einen FERNseher]              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L*+H                       L*                   H*+L    L%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(GToBI: H*   L-%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rm der Akzenttö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éry (1993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pikakzent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L*+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okusakzent 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H*+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ilden in „Topic-Comment-Sätzen“ eine sog. Hutkontu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SCHLAfen hat KEIner von un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*+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*+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rm der Akzenttö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hler (199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01040" indent="-154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ittlerer Gipfel: neu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01040" indent="-154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.B. am Beginn einer Argumentationskette: „Jetzt versteh ich das erst ____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81080" y="4114800"/>
          <a:ext cx="2457720" cy="112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114800"/>
                    <a:ext cx="24577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905120" y="5486400"/>
            <a:ext cx="2819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e hat ja geL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rm der Akzenttö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lvl="1" marL="505080" indent="-194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rüher Gipfel: bekannt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05080" indent="-194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.B. am Ende einer Argumentationskette; Schlußfolgerung: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„Wer einmal lügt, dem glaubt man nicht. Das gilt auch für Anna. _____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76520" y="4343400"/>
          <a:ext cx="2419200" cy="98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343400"/>
                    <a:ext cx="24192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447920" y="5410080"/>
            <a:ext cx="7238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e hat ja geL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+L*              beides (Rheme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-Akzen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rm der Akzenttö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terschiede in der Akzentform müssen nicht kategorisch sein (AT-Typen H* vs. H*+L), sie können auch graduell sein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ntrast-Akzente haben größeren Tonhöhenumfang (pitch rang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160" y="5257440"/>
            <a:ext cx="81788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iter Fok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: Was gibt´s Neu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: Das SPÜLwasser läuft nicht ab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caren-spuel-2" descr=""/>
          <p:cNvPicPr/>
          <p:nvPr/>
        </p:nvPicPr>
        <p:blipFill>
          <a:blip r:embed="rId1"/>
          <a:srcRect l="0" t="8189" r="4065" b="6465"/>
          <a:stretch/>
        </p:blipFill>
        <p:spPr>
          <a:xfrm>
            <a:off x="609480" y="228600"/>
            <a:ext cx="7772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440" y="4952880"/>
            <a:ext cx="81788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lvl="2" marL="696960" indent="-139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ntrast (enger Fok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96960" indent="-139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: Das Waschwasser läuft nicht a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96960" indent="-139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: Nein, nicht das Waschwasser. Das SPÜLwasser läuft nicht ab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caren-spuel-1" descr=""/>
          <p:cNvPicPr/>
          <p:nvPr/>
        </p:nvPicPr>
        <p:blipFill>
          <a:blip r:embed="rId1"/>
          <a:srcRect l="0" t="8784" r="2999" b="6063"/>
          <a:stretch/>
        </p:blipFill>
        <p:spPr>
          <a:xfrm>
            <a:off x="1143000" y="304920"/>
            <a:ext cx="7391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ntonation und IS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im Deutsch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tzung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Uhmanns (1988, 1991) fokus-phonologisches Intonations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kusprojektion (Rheme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-Projek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Normale Lineare Ordnung (NL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Bildung von Akzentdomä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kzente im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me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S und die Form der Akzenttöne (u.a. Féry, Kohl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Uhmann (1988, 199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plettestes Modell für eine regelhafte Verknüpfung von Intonation und IS im D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tosegmental-Metrischer Ansat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rundlegende Annah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okussierte Konstituenten (R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werden intonatorisch hervorgehoben, d.h. akzentuiert, nicht-fokussierte Konstituenten (Theme</a:t>
            </a:r>
            <a:r>
              <a:rPr b="0" i="1" lang="de-DE" sz="28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bleiben intonatorisch unmark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kuskontr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weisung eines (semantischen) Fokusmerkmals (F) muß unabhängig von der Intonation erfolgen     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Gefahr der Zirkularität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(Problem z.B. bei Selkirk 198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her: Frage-Antwort- u. Korrektur-Sequen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: Wa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frißt eure Katze am liebste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: Unsere Katze frißt am liebsten [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Fi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LAtzikatz]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eme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] [  Rheme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i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Enger vs. weiter Fok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ger Foku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: Wohin will Karl morgen fahre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: Karl will morgen nach [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BerLIN ] fahren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ine Konstituente im Fokus (N der P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iter Foku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: Was macht Karl am Wochenen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: Karl [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ill morgen nach BerLIN fahren ]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komplexes Syntagma im Fokus (gesamte VP), markiert durch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ein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kzent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Fokusprojek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kusprojek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arl [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will morgen nach BerLIN fahren ]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Berl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ist der Fokusexponent (FE), d.h. die Konstituente, deren Akzentuierung Fokusprojektion (bzw. eine weite Fokus-Lesart) erlaub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er Akzent wird mit der metrisch stärksten Silbe des FE assoziiert (Iktus od. Wortakzent)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zweite Silbe von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Berlin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kusprojek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lche Konstituenten können als FE fungier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rgument-Prädikat-Strukturen (Argumente = valenzabhängige Kons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: Was gibt´s Neu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 a: Karl liest ein BU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 b: Karl hat ein BUCH gelesen.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Argumente sind FE, unabhängig von der Reihenfol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Fokusprojek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F: Was gibt´s Neu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: Karl hat dem Kind ein BUCH geschenkt.  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sind mehrere Argumente vorhanden, ist das am weitesten rechts stehende der 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blem mit Subjekt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Bettler GEIG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Kind hat sich HINfallen lassen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gentive Subjekte (externe Argumente) fungieren nicht als F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3:55:44Z</dcterms:created>
  <dc:creator>Stefan Baumann</dc:creator>
  <dc:description/>
  <dc:language>en-US</dc:language>
  <cp:lastModifiedBy>Phonetik</cp:lastModifiedBy>
  <cp:lastPrinted>2002-01-24T20:08:24Z</cp:lastPrinted>
  <dcterms:modified xsi:type="dcterms:W3CDTF">2002-01-24T20:58:34Z</dcterms:modified>
  <cp:revision>23</cp:revision>
  <dc:subject/>
  <dc:title>Realisierung und  Interpretation der IS  im Deutschen                     -  Intonation</dc:title>
</cp:coreProperties>
</file>