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4064-18B9-4DFE-9666-3D1E94DB23A7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ounding = Erreichen einer gemeinsamen Wissens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ve: speech acts towards a purpose, exchange (question, answer), transaction subdialo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e speech act: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text can be: linguistic, semantic, physical, social, cogn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acks a precise seman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ttempts to bypass interpretation, tries to trivialize syntactical and grammat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ample: for attempted performance „Do you have coffee to go?“ „Yes, we do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t may be easier to plan and recognize concrete bundles of functions than trying to move directly from utterance to utt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al-time reasong which should allow also simultaneous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finition: decide what is and what is not a speech act, decide what is and what is not a successful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anning: acts can be planned on different levels ( plan whole argumentation or just a single speech a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o I recognize only the speech acts or intentions als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aning keep it simple or make i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 it a dictionary or do I describe poli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. ex. does it fit into a classroom-sce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nderstanding is formulated very therotical, because it is difficult to specify what does understanding really mean (parsing, interpreting or something el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ounding criterion: The partners believe that they have understood what the contributor meant to a criterion sufficent for the current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contribution model is from Clark/Schaefer: The achievement of mututal understanding is a collaborative process brought about by active participation by multiple particip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tribution by turns means presentation can also be acceptance at the same time. Does continuing mean accept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blems with phases: move the boxcar to corning ok and load it with oranges vs move the boxcar to corning and load it with or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ffline meaning also that some utterances can be part of both phases f.ex.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</a:rPr>
              <a:t> repair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can be part of both ph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re is no easy way to tell the state of the current contribution while engaged in conver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uilding blocks of the units can be contained in one utt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is requires no look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acts are distinguished according to performer and states( need for repair or acknowledgment, dead 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pends on how utterance units are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ocutionary: „It is rather cold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llocutionary: „It is rather cold.“ (shut the window, damm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agmatics meaning the relation between content and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rformatives: utterance creates a result, can be explicit: result is explained in the utterance f.ex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llocutionary: verdictive, exercitive, commissive, expositive, behav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rformatives: the utterance creates a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anning system components: states: set of propositions (what the world is lik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tions: operators mapping one state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lans: sequence of actions and states (how to get from the initial to goal 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mplates may not be 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mplates cover the linguistic level, plan inference covers the planning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lief-transfer-rule: If one agent believes that another agent believes something the other agent will come to believe it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clarative rule: If an agent said a declarative utterance then it believes the propositional content of that utte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operative tasks, task-independent would be clarification and s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FC8-2914-4FFD-8C85-F80F70D4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321-1AE4-4690-B550-8845FD52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81F-10E5-4B8E-BFD1-2F06853A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C4C-5FC7-4686-B28A-2E74E9F7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1E89-AF3B-421F-B5CA-73551F13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FF16-5EE2-4EE9-8640-7A5021B9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BB8A-236B-4214-BF25-9C4692B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F761-A8F6-4C21-8634-520C24A1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717B-2CC0-4ACC-B0EC-D8DC17EC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6FB3-3678-49CB-BCAB-7DD2BCB1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1E45-9084-4C71-A3F3-9FAC9FE3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521-0917-4A66-B74D-2EA631E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DCD1-AE19-42AF-B53F-D4DCBDB9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BD4-2AB5-40F0-AF4E-C53EAB03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6A9B-95E8-44B9-A35D-C954F65E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5D7B-3834-465A-847D-5398EFF4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9BB7-7DD9-4271-8A9C-7708CB8A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4A1-1F71-4DB7-AD15-8B49D2D2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4F6-0E01-484B-9D24-1167ED81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EF0-C982-49F6-BF08-66DD5714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545-9353-45DF-B90D-2764D676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ACE-0D6B-4ECB-B4D9-4A7721B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E4A-D4AF-464D-9800-D90BC87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BF4-FBBC-4264-BED0-B03F5729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DFC7-2FA1-4F27-996E-74C7D34BBF41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E97-40C1-4858-8C8A-7816E412B87C}" type="slidenum">
              <a:rPr b="0" lang="de-DE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14976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3366"/>
                </a:solidFill>
                <a:uFillTx/>
                <a:latin typeface="Verdana"/>
              </a:rPr>
              <a:t>speech acts for dialogue ag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ro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lassification of individual speech act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foundational work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AI models of speech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non-monotonic theories of spee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composition of speech 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xample of a description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dialogueAgents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733680" cy="552240"/>
          </a:xfrm>
          <a:prstGeom prst="rect">
            <a:avLst/>
          </a:prstGeom>
          <a:ln w="0">
            <a:noFill/>
          </a:ln>
        </p:spPr>
      </p:pic>
      <p:pic>
        <p:nvPicPr>
          <p:cNvPr id="219" name="individual" descr=""/>
          <p:cNvPicPr/>
          <p:nvPr/>
        </p:nvPicPr>
        <p:blipFill>
          <a:blip r:embed="rId2"/>
          <a:stretch/>
        </p:blipFill>
        <p:spPr>
          <a:xfrm>
            <a:off x="7391520" y="3352680"/>
            <a:ext cx="371520" cy="552600"/>
          </a:xfrm>
          <a:prstGeom prst="rect">
            <a:avLst/>
          </a:prstGeom>
          <a:ln w="0">
            <a:noFill/>
          </a:ln>
        </p:spPr>
      </p:pic>
      <p:pic>
        <p:nvPicPr>
          <p:cNvPr id="220" name="collective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221" name="world" descr=""/>
          <p:cNvPicPr/>
          <p:nvPr/>
        </p:nvPicPr>
        <p:blipFill>
          <a:blip r:embed="rId4"/>
          <a:stretch/>
        </p:blipFill>
        <p:spPr>
          <a:xfrm>
            <a:off x="6781680" y="51814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222" name="question" descr=""/>
          <p:cNvPicPr/>
          <p:nvPr/>
        </p:nvPicPr>
        <p:blipFill>
          <a:blip r:embed="rId5"/>
          <a:stretch/>
        </p:blipFill>
        <p:spPr>
          <a:xfrm>
            <a:off x="3048120" y="5562720"/>
            <a:ext cx="323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combination of speech ac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ultiple levels of inte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conversation types: turn-taking, grounding, core speech acts, argu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ialogue acts: task-oriented or to control dialogue, update dialogue contex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llective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249" name="interactionRanks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515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Verdana"/>
              </a:rPr>
              <a:t>example of a description language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KQML: knowledge query and manipulation langu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world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253" name="kqml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541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basic problems concerning the language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The range of communicative action is too w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hould multifunctionality of utterances be allow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hat distinguishes an attempt from an successful performan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ow to view language as a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Verdana"/>
              </a:rPr>
              <a:t>extensions for multi-agent-action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temporal and real-time reaso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multiple agents with different mental st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integration of planning and ac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How can I define speech acts precisel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How can I plan speech ac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How do I recognize speech ac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871560" y="1103400"/>
            <a:ext cx="81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Verdana"/>
              </a:rPr>
              <a:t>basic questions concerning speech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question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324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ques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tick to intuition or formal rigou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hen is a speech act successful? for what convers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hat is the role of intention and performan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ow important are condi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an dialogues be composesd of primitiv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ow to capture multiplic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question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324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378360"/>
            <a:ext cx="7391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groun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tablishment of mutual belief, oblig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2 proposed models for the establishment proces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contribu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duction of a con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contributionModel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39621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contribution model ctd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s divided into 2 phases:presentation and accep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ficiencies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- How much acceptance is enough?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- What belongs to which phase? (difficult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when more than 2 participants ar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  involved, phases appear offl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mprovement: introduce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the grounding acts mode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asically an online-reformulation of the contribution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agent keeps track of the conver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scourse units (=contributions) distinguished according to performer and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ficiencies: lack of finer degrees of groundedness, no sufficient granularity of utterance un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66"/>
                </a:solidFill>
                <a:latin typeface="Verdana"/>
              </a:rPr>
              <a:t>foundational speech act work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focus on pragma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O THINGS, change mental state, change interactional st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locutionary, illocutionary, perlocutionary speech ac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performa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individual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37152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AI models of spee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hen do I believe that somebody has successfully uttered somethin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How are the participants affect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hat is the relation between meaning and acts of utteran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-----------------------------------------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ntroduce planning system for states of the world and the semantics for a formal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finitions of speech acts as operators in the plann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individual" descr=""/>
          <p:cNvPicPr/>
          <p:nvPr/>
        </p:nvPicPr>
        <p:blipFill>
          <a:blip r:embed="rId1"/>
          <a:stretch/>
        </p:blipFill>
        <p:spPr>
          <a:xfrm>
            <a:off x="6858000" y="838080"/>
            <a:ext cx="3715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AI models of speech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models of mental states: belief, w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beliefs = modal operators (believer, proposi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improvement: linguistic clues to produce partial speech act templates, plan inference used to rule out certain possib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eficiencies: lack of belief trans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not clear: are speech acts primitive or n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individual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3715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10422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Verdana"/>
              </a:rPr>
              <a:t>non-monotonic theories of speech act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utterance itself is insuffic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introduction of prior content including the mental states of the ag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belief-transfer-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declarative-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lacks belief revi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individual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3715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66"/>
                </a:solidFill>
                <a:latin typeface="Verdana"/>
              </a:rPr>
              <a:t>composition of speech ac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introduction of a plan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collective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245" name="planHierarchy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772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0:56:10Z</dcterms:created>
  <dc:creator>jur-online</dc:creator>
  <dc:description/>
  <dc:language>en-US</dc:language>
  <cp:lastModifiedBy>jur-online</cp:lastModifiedBy>
  <dcterms:modified xsi:type="dcterms:W3CDTF">2002-05-16T18:12:42Z</dcterms:modified>
  <cp:revision>151</cp:revision>
  <dc:subject/>
  <dc:title>Speech acts for dialogue agents</dc:title>
</cp:coreProperties>
</file>