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DBC-6887-4C47-A261-DF0A6586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A6F-CC5A-48CD-8F78-A41DD86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792-660E-4C11-9692-DBF638F1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D78-2C43-41ED-B8FD-49C113E2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DB08-48D0-4DE6-ADF4-234D3EAD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DCE-49CD-4414-BD4A-C561733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33F-7E81-4C06-8BC9-214F5EE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8CD-54FF-44EC-B9B7-46C1250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92B0-B5C2-44DA-A11E-06BC0DD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AA65-8DD6-4329-BFFC-8332C68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3E04-CE04-4433-8AD6-B27E550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818-C4F6-458F-916E-16F0376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1960-64A0-47F1-A6D6-C4CB9E19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9A71-C463-4EAD-A063-675C7B5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04FD-386D-4132-A794-70FD99B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CB1A-E6B7-4903-82DE-C3F75FDA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0C0-E814-4476-A5A8-C092CD22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E53-A7A5-49D1-AC0C-538F9DC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AF8-D0CF-46AE-8080-5E04C486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C06-4509-473A-86D5-172F5A87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4BC-FEDE-44B2-814C-8E09A16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44A-DAE8-47F3-846C-DB266A8E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8C6-0F49-4F61-887C-C0955808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6F8-D155-4B4B-BD6F-C516754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6E6-868C-4D5E-B728-6B884C0602B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DC5-C0EA-49FA-B9AF-F509F8C51B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9AF-32D5-4E88-A311-EC04F0F01630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725-2C38-4E48-AE5F-0635F3E440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ining Answers in German Web Pag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934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Günter Neumann &amp; Feiyu X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Language Technology 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German Research Center for Artificial Intelligenc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FKI, Saarbrück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Query and Google Retriev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5486400" cy="4837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2057400"/>
            <a:ext cx="2743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r flog 1927 zum ersten Mal allein und nonstop von New York nach Paris über den Atlantik?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434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Who flew for the first time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alone and nonstop from New York to Paris over the Atlantic in 1927?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705720" cy="5054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Inverted list of instances of expected answer typ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752480"/>
            <a:ext cx="17528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ahoma"/>
              </a:rPr>
              <a:t>Best NE</a:t>
            </a:r>
            <a:r>
              <a:rPr b="0" lang="de-DE" sz="1600" spc="-1" strike="noStrike" baseline="-25000">
                <a:solidFill>
                  <a:srgbClr val="40458c"/>
                </a:solidFill>
                <a:latin typeface="Tahoma"/>
              </a:rPr>
              <a:t>EA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ahoma"/>
              </a:rPr>
              <a:t>38 times found i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ahoma"/>
              </a:rPr>
              <a:t>24 different documents (incl. NE-referenc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H="1">
            <a:off x="4799880" y="3429000"/>
            <a:ext cx="3048840" cy="7754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7391520" y="42670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0458c"/>
                </a:solidFill>
                <a:latin typeface="Tahoma"/>
              </a:rPr>
              <a:t>Referring documen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629040" y="4572000"/>
            <a:ext cx="76212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50529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Best sentence and exact answe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Initial Experiment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rpu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Query/answer pairs from popular German quize boo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Questions from more than 40 subject areas: philosophy, nature science, history, geography, culture, sport, etc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Questions formalized independ of any QA system in mi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wo test environments: restricted vs. extende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mparision of WAG results with M=5 top Google-snipp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Measu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ecall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he percentage of the questions answered correctly compared to all questions of the test corpu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Mean Reciprocal Rank (MRR) for N questions and reciprocal</a:t>
            </a:r>
            <a:br>
              <a:rPr sz="2000"/>
            </a:b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ank of found answer for quest I (1/1, ½, …, 1/5 or 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31860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00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62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5791320"/>
                <a:ext cx="16765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n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wo Test Environment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tric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0 person-related and 19 location-rela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ssume: NE-instances of expected answer types are covered by our NE-recogniz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o became Israel’s first prime minister in 1949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which former soviet state was the nuclear power plant Chernobyl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tend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5 location-related, 8 organization-related, 35 person-rela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he expected answer type of a question is not always covered by our NE-recognize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What’s the name of the organisation found in 1971, which helps people all over the world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69360" indent="-3729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imes New Roman"/>
              </a:rPr>
              <a:t>Which boy group did the English singer Robbie Williams belong to before his Solo Career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876920" y="1371600"/>
            <a:ext cx="3962160" cy="54864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371600"/>
            <a:ext cx="4267440" cy="54864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Average Results of Restricted Te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860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38080" y="2209680"/>
            <a:ext cx="3809880" cy="1067040"/>
            <a:chOff x="838080" y="2209680"/>
            <a:chExt cx="3809880" cy="1067040"/>
          </a:xfrm>
        </p:grpSpPr>
        <p:grpSp>
          <p:nvGrpSpPr>
            <p:cNvPr id="310" name=""/>
            <p:cNvGrpSpPr/>
            <p:nvPr/>
          </p:nvGrpSpPr>
          <p:grpSpPr>
            <a:xfrm>
              <a:off x="841680" y="2210760"/>
              <a:ext cx="3801960" cy="1064520"/>
              <a:chOff x="841680" y="2210760"/>
              <a:chExt cx="3801960" cy="10645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841680" y="2210760"/>
                <a:ext cx="1337400" cy="403560"/>
                <a:chOff x="841680" y="2210760"/>
                <a:chExt cx="1337400" cy="4035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919440" y="2210760"/>
                  <a:ext cx="118188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41680" y="2210760"/>
                  <a:ext cx="13374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179440" y="2210760"/>
                <a:ext cx="804600" cy="403560"/>
                <a:chOff x="2179440" y="2210760"/>
                <a:chExt cx="804600" cy="4035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256480" y="2210760"/>
                  <a:ext cx="6498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179440" y="2210760"/>
                  <a:ext cx="8046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984760" y="2210760"/>
                <a:ext cx="870120" cy="403560"/>
                <a:chOff x="2984760" y="2210760"/>
                <a:chExt cx="870120" cy="4035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062520" y="2210760"/>
                  <a:ext cx="7146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984760" y="2210760"/>
                  <a:ext cx="87012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855240" y="2210760"/>
                <a:ext cx="788400" cy="403560"/>
                <a:chOff x="3855240" y="2210760"/>
                <a:chExt cx="788400" cy="4035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932280" y="2210760"/>
                  <a:ext cx="63324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855240" y="2210760"/>
                  <a:ext cx="7884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841680" y="2614320"/>
                <a:ext cx="1337400" cy="257040"/>
                <a:chOff x="841680" y="2614320"/>
                <a:chExt cx="1337400" cy="257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919440" y="2614320"/>
                  <a:ext cx="11818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41680" y="2614320"/>
                  <a:ext cx="1337400" cy="2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179440" y="2614320"/>
                <a:ext cx="804600" cy="257040"/>
                <a:chOff x="2179440" y="2614320"/>
                <a:chExt cx="804600" cy="257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256480" y="2614320"/>
                  <a:ext cx="6498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0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179440" y="2614320"/>
                  <a:ext cx="804600" cy="2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984760" y="2614320"/>
                <a:ext cx="870120" cy="257040"/>
                <a:chOff x="2984760" y="2614320"/>
                <a:chExt cx="870120" cy="257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062520" y="2614320"/>
                  <a:ext cx="7146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984760" y="2614320"/>
                  <a:ext cx="870120" cy="2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855240" y="2614320"/>
                <a:ext cx="788400" cy="257040"/>
                <a:chOff x="3855240" y="2614320"/>
                <a:chExt cx="788400" cy="257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932280" y="2614320"/>
                  <a:ext cx="6332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55240" y="2614320"/>
                  <a:ext cx="788400" cy="25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41680" y="2871720"/>
                <a:ext cx="1337400" cy="403560"/>
                <a:chOff x="841680" y="2871720"/>
                <a:chExt cx="1337400" cy="403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919440" y="2871720"/>
                  <a:ext cx="118188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cluding no document case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41680" y="2871720"/>
                  <a:ext cx="13374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179440" y="2871720"/>
                <a:ext cx="804600" cy="403560"/>
                <a:chOff x="2179440" y="2871720"/>
                <a:chExt cx="804600" cy="403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256480" y="2871720"/>
                  <a:ext cx="6498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2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179440" y="2871720"/>
                  <a:ext cx="8046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984760" y="2871720"/>
                <a:ext cx="870120" cy="403560"/>
                <a:chOff x="2984760" y="2871720"/>
                <a:chExt cx="870120" cy="403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3062520" y="2871720"/>
                  <a:ext cx="7146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84760" y="2871720"/>
                  <a:ext cx="87012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55240" y="2871720"/>
                <a:ext cx="788400" cy="403560"/>
                <a:chOff x="3855240" y="2871720"/>
                <a:chExt cx="788400" cy="403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932280" y="2871720"/>
                  <a:ext cx="63324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55240" y="2871720"/>
                  <a:ext cx="78840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>
              <a:off x="838080" y="2209680"/>
              <a:ext cx="3809880" cy="10670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286000" y="1828800"/>
            <a:ext cx="441972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the Google snippe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62120" y="3733920"/>
            <a:ext cx="3885840" cy="1218960"/>
            <a:chOff x="762120" y="3733920"/>
            <a:chExt cx="3885840" cy="1218960"/>
          </a:xfrm>
        </p:grpSpPr>
        <p:grpSp>
          <p:nvGrpSpPr>
            <p:cNvPr id="350" name=""/>
            <p:cNvGrpSpPr/>
            <p:nvPr/>
          </p:nvGrpSpPr>
          <p:grpSpPr>
            <a:xfrm>
              <a:off x="765720" y="3735360"/>
              <a:ext cx="3877560" cy="1216080"/>
              <a:chOff x="765720" y="3735360"/>
              <a:chExt cx="3877560" cy="12160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765720" y="3735360"/>
                <a:ext cx="1364040" cy="461160"/>
                <a:chOff x="765720" y="3735360"/>
                <a:chExt cx="1364040" cy="4611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44920" y="3735360"/>
                  <a:ext cx="120564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 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nswe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65720" y="3735360"/>
                  <a:ext cx="13640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130120" y="3735360"/>
                <a:ext cx="820440" cy="461160"/>
                <a:chOff x="2130120" y="3735360"/>
                <a:chExt cx="820440" cy="461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208960" y="3735360"/>
                  <a:ext cx="6627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130120" y="3735360"/>
                  <a:ext cx="8204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951280" y="3735360"/>
                <a:ext cx="887400" cy="461160"/>
                <a:chOff x="2951280" y="3735360"/>
                <a:chExt cx="887400" cy="461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030480" y="3735360"/>
                  <a:ext cx="72900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51280" y="3735360"/>
                  <a:ext cx="88740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839040" y="3735360"/>
                <a:ext cx="804240" cy="461160"/>
                <a:chOff x="3839040" y="3735360"/>
                <a:chExt cx="804240" cy="461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917880" y="3735360"/>
                  <a:ext cx="64620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39040" y="3735360"/>
                  <a:ext cx="8042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65720" y="4196520"/>
                <a:ext cx="1364040" cy="293760"/>
                <a:chOff x="765720" y="4196520"/>
                <a:chExt cx="1364040" cy="2937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844920" y="4196520"/>
                  <a:ext cx="120564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65720" y="4196520"/>
                  <a:ext cx="1364040" cy="29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130120" y="4196520"/>
                <a:ext cx="820440" cy="293760"/>
                <a:chOff x="2130120" y="4196520"/>
                <a:chExt cx="820440" cy="2937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208960" y="4196520"/>
                  <a:ext cx="6627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1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130120" y="4196520"/>
                  <a:ext cx="820440" cy="29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51280" y="4196520"/>
                <a:ext cx="887400" cy="293760"/>
                <a:chOff x="2951280" y="4196520"/>
                <a:chExt cx="887400" cy="293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030480" y="4196520"/>
                  <a:ext cx="72900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51280" y="4196520"/>
                  <a:ext cx="887400" cy="29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3839040" y="4196520"/>
                <a:ext cx="804240" cy="293760"/>
                <a:chOff x="3839040" y="4196520"/>
                <a:chExt cx="804240" cy="2937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917880" y="4196520"/>
                  <a:ext cx="64620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839040" y="4196520"/>
                  <a:ext cx="804240" cy="29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65720" y="4490280"/>
                <a:ext cx="1364040" cy="461160"/>
                <a:chOff x="765720" y="4490280"/>
                <a:chExt cx="1364040" cy="4611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44920" y="4490280"/>
                  <a:ext cx="120564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cluding no document case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65720" y="4490280"/>
                  <a:ext cx="13640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130120" y="4490280"/>
                <a:ext cx="820440" cy="461160"/>
                <a:chOff x="2130120" y="4490280"/>
                <a:chExt cx="820440" cy="4611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208960" y="4490280"/>
                  <a:ext cx="6627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3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30120" y="4490280"/>
                  <a:ext cx="8204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951280" y="4490280"/>
                <a:ext cx="887400" cy="461160"/>
                <a:chOff x="2951280" y="4490280"/>
                <a:chExt cx="887400" cy="4611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030480" y="4490280"/>
                  <a:ext cx="72900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951280" y="4490280"/>
                  <a:ext cx="88740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839040" y="4490280"/>
                <a:ext cx="804240" cy="461160"/>
                <a:chOff x="3839040" y="4490280"/>
                <a:chExt cx="804240" cy="4611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917880" y="4490280"/>
                  <a:ext cx="64620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6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39040" y="4490280"/>
                  <a:ext cx="80424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762120" y="3733920"/>
              <a:ext cx="3885840" cy="12189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09680" y="3352680"/>
            <a:ext cx="434340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WAG exact answer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952880" y="2286000"/>
            <a:ext cx="3728880" cy="838080"/>
            <a:chOff x="4952880" y="2286000"/>
            <a:chExt cx="3728880" cy="838080"/>
          </a:xfrm>
        </p:grpSpPr>
        <p:grpSp>
          <p:nvGrpSpPr>
            <p:cNvPr id="390" name=""/>
            <p:cNvGrpSpPr/>
            <p:nvPr/>
          </p:nvGrpSpPr>
          <p:grpSpPr>
            <a:xfrm>
              <a:off x="4956480" y="2287440"/>
              <a:ext cx="3720960" cy="834840"/>
              <a:chOff x="4956480" y="2287440"/>
              <a:chExt cx="3720960" cy="8348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4956480" y="2287440"/>
                <a:ext cx="1372320" cy="510120"/>
                <a:chOff x="4956480" y="2287440"/>
                <a:chExt cx="137232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032440" y="2287440"/>
                  <a:ext cx="1220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956480" y="2287440"/>
                  <a:ext cx="1372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329160" y="2287440"/>
                <a:ext cx="723960" cy="510120"/>
                <a:chOff x="6329160" y="2287440"/>
                <a:chExt cx="72396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405120" y="2287440"/>
                  <a:ext cx="5724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329160" y="2287440"/>
                  <a:ext cx="723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7053840" y="2287440"/>
                <a:ext cx="787680" cy="510120"/>
                <a:chOff x="7053840" y="2287440"/>
                <a:chExt cx="78768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129800" y="2287440"/>
                  <a:ext cx="6357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53840" y="2287440"/>
                  <a:ext cx="7876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841880" y="2287440"/>
                <a:ext cx="835560" cy="510120"/>
                <a:chOff x="7841880" y="2287440"/>
                <a:chExt cx="83556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917840" y="2287440"/>
                  <a:ext cx="683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841880" y="2287440"/>
                  <a:ext cx="8355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956480" y="2797560"/>
                <a:ext cx="1372320" cy="324720"/>
                <a:chOff x="4956480" y="2797560"/>
                <a:chExt cx="1372320" cy="324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32440" y="2797560"/>
                  <a:ext cx="122076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956480" y="2797560"/>
                  <a:ext cx="137232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329160" y="2797560"/>
                <a:ext cx="723960" cy="324720"/>
                <a:chOff x="6329160" y="2797560"/>
                <a:chExt cx="723960" cy="324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405120" y="2797560"/>
                  <a:ext cx="57240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29160" y="2797560"/>
                  <a:ext cx="72396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53840" y="2797560"/>
                <a:ext cx="787680" cy="324720"/>
                <a:chOff x="7053840" y="2797560"/>
                <a:chExt cx="787680" cy="324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129800" y="2797560"/>
                  <a:ext cx="63576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53840" y="2797560"/>
                  <a:ext cx="78768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841880" y="2797560"/>
                <a:ext cx="835560" cy="324720"/>
                <a:chOff x="7841880" y="2797560"/>
                <a:chExt cx="835560" cy="324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917840" y="2797560"/>
                  <a:ext cx="68328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841880" y="2797560"/>
                  <a:ext cx="83556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4952880" y="2286000"/>
              <a:ext cx="3728880" cy="838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52880" y="3733920"/>
            <a:ext cx="3733560" cy="1066680"/>
            <a:chOff x="4952880" y="3733920"/>
            <a:chExt cx="3733560" cy="1066680"/>
          </a:xfrm>
        </p:grpSpPr>
        <p:grpSp>
          <p:nvGrpSpPr>
            <p:cNvPr id="417" name=""/>
            <p:cNvGrpSpPr/>
            <p:nvPr/>
          </p:nvGrpSpPr>
          <p:grpSpPr>
            <a:xfrm>
              <a:off x="4956480" y="3735720"/>
              <a:ext cx="3725280" cy="1062360"/>
              <a:chOff x="4956480" y="3735720"/>
              <a:chExt cx="3725280" cy="106236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4956480" y="3735720"/>
                <a:ext cx="1374120" cy="649080"/>
                <a:chOff x="4956480" y="3735720"/>
                <a:chExt cx="1374120" cy="649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032440" y="3735720"/>
                  <a:ext cx="1222200" cy="64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 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nswe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56480" y="3735720"/>
                  <a:ext cx="1374120" cy="64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6330960" y="3735720"/>
                <a:ext cx="725040" cy="649080"/>
                <a:chOff x="6330960" y="3735720"/>
                <a:chExt cx="725040" cy="6490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406920" y="3735720"/>
                  <a:ext cx="573120" cy="64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330960" y="3735720"/>
                  <a:ext cx="725040" cy="64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056360" y="3735720"/>
                <a:ext cx="788760" cy="649080"/>
                <a:chOff x="7056360" y="3735720"/>
                <a:chExt cx="788760" cy="649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132320" y="3735720"/>
                  <a:ext cx="636480" cy="64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56360" y="3735720"/>
                  <a:ext cx="788760" cy="64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845480" y="3735720"/>
                <a:ext cx="836280" cy="649080"/>
                <a:chOff x="7845480" y="3735720"/>
                <a:chExt cx="836280" cy="649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1440" y="3735720"/>
                  <a:ext cx="684000" cy="64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45480" y="3735720"/>
                  <a:ext cx="836280" cy="64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956480" y="4384800"/>
                <a:ext cx="1374120" cy="413280"/>
                <a:chOff x="4956480" y="4384800"/>
                <a:chExt cx="1374120" cy="413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032440" y="4384800"/>
                  <a:ext cx="12222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56480" y="4384800"/>
                  <a:ext cx="1374120" cy="41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330960" y="4384800"/>
                <a:ext cx="725040" cy="413280"/>
                <a:chOff x="6330960" y="4384800"/>
                <a:chExt cx="725040" cy="4132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406920" y="4384800"/>
                  <a:ext cx="5731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3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330960" y="4384800"/>
                  <a:ext cx="725040" cy="41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056360" y="4384800"/>
                <a:ext cx="788760" cy="413280"/>
                <a:chOff x="7056360" y="4384800"/>
                <a:chExt cx="788760" cy="4132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132320" y="4384800"/>
                  <a:ext cx="63648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56360" y="4384800"/>
                  <a:ext cx="788760" cy="41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845480" y="4384800"/>
                <a:ext cx="836280" cy="413280"/>
                <a:chOff x="7845480" y="4384800"/>
                <a:chExt cx="836280" cy="413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921440" y="4384800"/>
                  <a:ext cx="6840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45480" y="4384800"/>
                  <a:ext cx="836280" cy="41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4952880" y="3733920"/>
              <a:ext cx="3733560" cy="1066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10920" y="13716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92600" y="13716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5" name="logo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685800" cy="272880"/>
          </a:xfrm>
          <a:prstGeom prst="rect">
            <a:avLst/>
          </a:prstGeom>
          <a:ln w="0">
            <a:noFill/>
          </a:ln>
        </p:spPr>
      </p:pic>
      <p:pic>
        <p:nvPicPr>
          <p:cNvPr id="446" name="logo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685800" cy="272880"/>
          </a:xfrm>
          <a:prstGeom prst="rect">
            <a:avLst/>
          </a:prstGeom>
          <a:ln w="0">
            <a:noFill/>
          </a:ln>
        </p:spPr>
      </p:pic>
      <p:pic>
        <p:nvPicPr>
          <p:cNvPr id="447" name="wag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533160" cy="3654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450800" y="2362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snipp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9280" y="2514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snipp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0" name="wag" descr=""/>
          <p:cNvPicPr/>
          <p:nvPr/>
        </p:nvPicPr>
        <p:blipFill>
          <a:blip r:embed="rId4"/>
          <a:stretch/>
        </p:blipFill>
        <p:spPr>
          <a:xfrm>
            <a:off x="4952880" y="3809880"/>
            <a:ext cx="533520" cy="365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209680" y="5029200"/>
            <a:ext cx="480060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WAG sentence answer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85800" y="5486400"/>
            <a:ext cx="4114440" cy="1268280"/>
            <a:chOff x="685800" y="5486400"/>
            <a:chExt cx="4114440" cy="1268280"/>
          </a:xfrm>
        </p:grpSpPr>
        <p:grpSp>
          <p:nvGrpSpPr>
            <p:cNvPr id="453" name=""/>
            <p:cNvGrpSpPr/>
            <p:nvPr/>
          </p:nvGrpSpPr>
          <p:grpSpPr>
            <a:xfrm>
              <a:off x="689760" y="5487480"/>
              <a:ext cx="4106160" cy="1265400"/>
              <a:chOff x="689760" y="5487480"/>
              <a:chExt cx="4106160" cy="12654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89760" y="5487480"/>
                <a:ext cx="1340640" cy="421920"/>
                <a:chOff x="689760" y="5487480"/>
                <a:chExt cx="1340640" cy="421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776880" y="5487480"/>
                  <a:ext cx="1166760" cy="42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9760" y="5487480"/>
                  <a:ext cx="1340640" cy="42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2030760" y="5487480"/>
                <a:ext cx="903240" cy="421920"/>
                <a:chOff x="2030760" y="5487480"/>
                <a:chExt cx="903240" cy="421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2117880" y="5487480"/>
                  <a:ext cx="728640" cy="42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030760" y="5487480"/>
                  <a:ext cx="903240" cy="42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934360" y="5487480"/>
                <a:ext cx="975600" cy="421920"/>
                <a:chOff x="2934360" y="5487480"/>
                <a:chExt cx="975600" cy="421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021480" y="5487480"/>
                  <a:ext cx="801720" cy="42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934360" y="5487480"/>
                  <a:ext cx="975600" cy="42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910680" y="5487480"/>
                <a:ext cx="885240" cy="421920"/>
                <a:chOff x="3910680" y="5487480"/>
                <a:chExt cx="885240" cy="421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997800" y="5487480"/>
                  <a:ext cx="710640" cy="42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10680" y="5487480"/>
                  <a:ext cx="885240" cy="42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89760" y="5909400"/>
                <a:ext cx="1340640" cy="345240"/>
                <a:chOff x="689760" y="5909400"/>
                <a:chExt cx="1340640" cy="345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776880" y="5909400"/>
                  <a:ext cx="116676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9760" y="5909400"/>
                  <a:ext cx="1340640" cy="34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2030760" y="5909400"/>
                <a:ext cx="903240" cy="345240"/>
                <a:chOff x="2030760" y="5909400"/>
                <a:chExt cx="903240" cy="345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117880" y="5909400"/>
                  <a:ext cx="72864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21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030760" y="5909400"/>
                  <a:ext cx="903240" cy="34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934360" y="5909400"/>
                <a:ext cx="975600" cy="345240"/>
                <a:chOff x="2934360" y="5909400"/>
                <a:chExt cx="975600" cy="3452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021480" y="5909400"/>
                  <a:ext cx="8017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934360" y="5909400"/>
                  <a:ext cx="975600" cy="34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3910680" y="5909400"/>
                <a:ext cx="885240" cy="345240"/>
                <a:chOff x="3910680" y="5909400"/>
                <a:chExt cx="885240" cy="345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3997800" y="5909400"/>
                  <a:ext cx="71064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10680" y="5909400"/>
                  <a:ext cx="885240" cy="34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89760" y="6254640"/>
                <a:ext cx="1340640" cy="498240"/>
                <a:chOff x="689760" y="6254640"/>
                <a:chExt cx="1340640" cy="4982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76880" y="6254640"/>
                  <a:ext cx="116676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cluding zero document case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89760" y="6254640"/>
                  <a:ext cx="134064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030760" y="6254640"/>
                <a:ext cx="903240" cy="498240"/>
                <a:chOff x="2030760" y="6254640"/>
                <a:chExt cx="903240" cy="4982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117880" y="6254640"/>
                  <a:ext cx="72864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25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030760" y="6254640"/>
                  <a:ext cx="90324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2934360" y="6254640"/>
                <a:ext cx="975600" cy="498240"/>
                <a:chOff x="2934360" y="6254640"/>
                <a:chExt cx="975600" cy="498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021480" y="6254640"/>
                  <a:ext cx="80172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9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934360" y="6254640"/>
                  <a:ext cx="97560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10680" y="6254640"/>
                <a:ext cx="885240" cy="498240"/>
                <a:chOff x="3910680" y="6254640"/>
                <a:chExt cx="885240" cy="4982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97800" y="6254640"/>
                  <a:ext cx="71064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6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10680" y="6254640"/>
                  <a:ext cx="885240" cy="49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685800" y="5486400"/>
              <a:ext cx="4114440" cy="12682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91" name="wag" descr=""/>
          <p:cNvPicPr/>
          <p:nvPr/>
        </p:nvPicPr>
        <p:blipFill>
          <a:blip r:embed="rId5"/>
          <a:stretch/>
        </p:blipFill>
        <p:spPr>
          <a:xfrm>
            <a:off x="685800" y="5562720"/>
            <a:ext cx="457200" cy="31248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4952880" y="5562720"/>
            <a:ext cx="3809880" cy="990360"/>
            <a:chOff x="4952880" y="5562720"/>
            <a:chExt cx="3809880" cy="990360"/>
          </a:xfrm>
        </p:grpSpPr>
        <p:grpSp>
          <p:nvGrpSpPr>
            <p:cNvPr id="493" name=""/>
            <p:cNvGrpSpPr/>
            <p:nvPr/>
          </p:nvGrpSpPr>
          <p:grpSpPr>
            <a:xfrm>
              <a:off x="4956480" y="5564160"/>
              <a:ext cx="3801600" cy="987120"/>
              <a:chOff x="4956480" y="5564160"/>
              <a:chExt cx="3801600" cy="98712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4956480" y="5564160"/>
                <a:ext cx="1308960" cy="583200"/>
                <a:chOff x="4956480" y="5564160"/>
                <a:chExt cx="1308960" cy="583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037120" y="5564160"/>
                  <a:ext cx="1147320" cy="5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956480" y="5564160"/>
                  <a:ext cx="1308960" cy="5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265800" y="5564160"/>
                <a:ext cx="768600" cy="583200"/>
                <a:chOff x="6265800" y="5564160"/>
                <a:chExt cx="768600" cy="5832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346440" y="5564160"/>
                  <a:ext cx="606960" cy="5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265800" y="5564160"/>
                  <a:ext cx="768600" cy="5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034760" y="5564160"/>
                <a:ext cx="836280" cy="583200"/>
                <a:chOff x="7034760" y="5564160"/>
                <a:chExt cx="836280" cy="583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115400" y="5564160"/>
                  <a:ext cx="674640" cy="5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034760" y="5564160"/>
                  <a:ext cx="836280" cy="5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871400" y="5564160"/>
                <a:ext cx="886680" cy="583200"/>
                <a:chOff x="7871400" y="5564160"/>
                <a:chExt cx="886680" cy="5832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7951680" y="5564160"/>
                  <a:ext cx="725760" cy="58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871400" y="5564160"/>
                  <a:ext cx="886680" cy="58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956480" y="6147360"/>
                <a:ext cx="1308960" cy="403920"/>
                <a:chOff x="4956480" y="6147360"/>
                <a:chExt cx="1308960" cy="403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037120" y="6147360"/>
                  <a:ext cx="11473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956480" y="6147360"/>
                  <a:ext cx="130896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265800" y="6147360"/>
                <a:ext cx="768600" cy="403920"/>
                <a:chOff x="6265800" y="6147360"/>
                <a:chExt cx="768600" cy="403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346440" y="6147360"/>
                  <a:ext cx="6069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2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265800" y="6147360"/>
                  <a:ext cx="76860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7034760" y="6147360"/>
                <a:ext cx="836280" cy="403920"/>
                <a:chOff x="7034760" y="6147360"/>
                <a:chExt cx="836280" cy="403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7115400" y="6147360"/>
                  <a:ext cx="6746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034760" y="6147360"/>
                  <a:ext cx="83628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871400" y="6147360"/>
                <a:ext cx="886680" cy="403920"/>
                <a:chOff x="7871400" y="6147360"/>
                <a:chExt cx="886680" cy="403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951680" y="6147360"/>
                  <a:ext cx="7257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7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871400" y="6147360"/>
                  <a:ext cx="88668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4952880" y="5562720"/>
              <a:ext cx="3809880" cy="9903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519" name="wag" descr=""/>
          <p:cNvPicPr/>
          <p:nvPr/>
        </p:nvPicPr>
        <p:blipFill>
          <a:blip r:embed="rId6"/>
          <a:stretch/>
        </p:blipFill>
        <p:spPr>
          <a:xfrm>
            <a:off x="4952880" y="5638680"/>
            <a:ext cx="457200" cy="3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876920" y="1371600"/>
            <a:ext cx="3962160" cy="54864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371600"/>
            <a:ext cx="4267440" cy="54864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Average Results of Extended Te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1860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8600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1752480"/>
            <a:ext cx="411480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the Google snippe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3276720"/>
            <a:ext cx="464832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WAG exact answer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0920" y="13716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92600" y="12952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9" name="logo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273240"/>
          </a:xfrm>
          <a:prstGeom prst="rect">
            <a:avLst/>
          </a:prstGeom>
          <a:ln w="0">
            <a:noFill/>
          </a:ln>
        </p:spPr>
      </p:pic>
      <p:pic>
        <p:nvPicPr>
          <p:cNvPr id="530" name="logo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685800" cy="272880"/>
          </a:xfrm>
          <a:prstGeom prst="rect">
            <a:avLst/>
          </a:prstGeom>
          <a:ln w="0">
            <a:noFill/>
          </a:ln>
        </p:spPr>
      </p:pic>
      <p:pic>
        <p:nvPicPr>
          <p:cNvPr id="531" name="wag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533520" cy="3650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937800" y="2406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snipp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60680" y="2362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snipp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34" name="wag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533160" cy="365040"/>
          </a:xfrm>
          <a:prstGeom prst="rect">
            <a:avLst/>
          </a:prstGeom>
          <a:ln w="0">
            <a:noFill/>
          </a:ln>
        </p:spPr>
      </p:pic>
      <p:grpSp>
        <p:nvGrpSpPr>
          <p:cNvPr id="535" name=""/>
          <p:cNvGrpSpPr/>
          <p:nvPr/>
        </p:nvGrpSpPr>
        <p:grpSpPr>
          <a:xfrm>
            <a:off x="4876920" y="2133720"/>
            <a:ext cx="3809520" cy="990360"/>
            <a:chOff x="4876920" y="2133720"/>
            <a:chExt cx="3809520" cy="990360"/>
          </a:xfrm>
        </p:grpSpPr>
        <p:grpSp>
          <p:nvGrpSpPr>
            <p:cNvPr id="536" name=""/>
            <p:cNvGrpSpPr/>
            <p:nvPr/>
          </p:nvGrpSpPr>
          <p:grpSpPr>
            <a:xfrm>
              <a:off x="4880520" y="2135520"/>
              <a:ext cx="3801600" cy="986400"/>
              <a:chOff x="4880520" y="2135520"/>
              <a:chExt cx="3801600" cy="9864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4880520" y="2135520"/>
                <a:ext cx="1173600" cy="493200"/>
                <a:chOff x="4880520" y="2135520"/>
                <a:chExt cx="1173600" cy="4932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956840" y="2135520"/>
                  <a:ext cx="10213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880520" y="2135520"/>
                  <a:ext cx="117360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054480" y="2135520"/>
                <a:ext cx="790560" cy="493200"/>
                <a:chOff x="6054480" y="2135520"/>
                <a:chExt cx="790560" cy="493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130800" y="2135520"/>
                  <a:ext cx="637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54480" y="2135520"/>
                  <a:ext cx="7905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845400" y="2135520"/>
                <a:ext cx="854280" cy="493200"/>
                <a:chOff x="6845400" y="2135520"/>
                <a:chExt cx="854280" cy="4932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921720" y="2135520"/>
                  <a:ext cx="7020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45400" y="2135520"/>
                  <a:ext cx="8542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700040" y="2135520"/>
                <a:ext cx="982080" cy="493200"/>
                <a:chOff x="7700040" y="2135520"/>
                <a:chExt cx="982080" cy="4932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776360" y="2135520"/>
                  <a:ext cx="8298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00040" y="2135520"/>
                  <a:ext cx="9820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880520" y="2628720"/>
                <a:ext cx="1173600" cy="493200"/>
                <a:chOff x="4880520" y="2628720"/>
                <a:chExt cx="1173600" cy="4932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956840" y="2628720"/>
                  <a:ext cx="10213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880520" y="2628720"/>
                  <a:ext cx="117360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054480" y="2628720"/>
                <a:ext cx="790560" cy="493200"/>
                <a:chOff x="6054480" y="2628720"/>
                <a:chExt cx="790560" cy="4932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130800" y="2628720"/>
                  <a:ext cx="63792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1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54480" y="2628720"/>
                  <a:ext cx="7905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845400" y="2628720"/>
                <a:ext cx="854280" cy="493200"/>
                <a:chOff x="6845400" y="2628720"/>
                <a:chExt cx="854280" cy="4932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921720" y="2628720"/>
                  <a:ext cx="7020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1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845400" y="2628720"/>
                  <a:ext cx="8542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7700040" y="2628720"/>
                <a:ext cx="982080" cy="493200"/>
                <a:chOff x="7700040" y="2628720"/>
                <a:chExt cx="982080" cy="4932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7776360" y="2628720"/>
                  <a:ext cx="8298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00040" y="2628720"/>
                  <a:ext cx="9820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1" name=""/>
            <p:cNvSpPr/>
            <p:nvPr/>
          </p:nvSpPr>
          <p:spPr>
            <a:xfrm>
              <a:off x="4876920" y="2133720"/>
              <a:ext cx="3809520" cy="9903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876920" y="3657600"/>
            <a:ext cx="3942720" cy="990720"/>
            <a:chOff x="4876920" y="3657600"/>
            <a:chExt cx="3942720" cy="990720"/>
          </a:xfrm>
        </p:grpSpPr>
        <p:grpSp>
          <p:nvGrpSpPr>
            <p:cNvPr id="563" name=""/>
            <p:cNvGrpSpPr/>
            <p:nvPr/>
          </p:nvGrpSpPr>
          <p:grpSpPr>
            <a:xfrm>
              <a:off x="4880520" y="3659040"/>
              <a:ext cx="3934440" cy="987120"/>
              <a:chOff x="4880520" y="3659040"/>
              <a:chExt cx="3934440" cy="98712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4880520" y="3659040"/>
                <a:ext cx="1214640" cy="542880"/>
                <a:chOff x="4880520" y="3659040"/>
                <a:chExt cx="1214640" cy="542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959360" y="3659040"/>
                  <a:ext cx="105696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nswe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880520" y="3659040"/>
                  <a:ext cx="1214640" cy="54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095520" y="3659040"/>
                <a:ext cx="818280" cy="542880"/>
                <a:chOff x="6095520" y="3659040"/>
                <a:chExt cx="818280" cy="5428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174360" y="3659040"/>
                  <a:ext cx="66024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095520" y="3659040"/>
                  <a:ext cx="818280" cy="54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6914160" y="3659040"/>
                <a:ext cx="884160" cy="542880"/>
                <a:chOff x="6914160" y="3659040"/>
                <a:chExt cx="884160" cy="5428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6993000" y="3659040"/>
                  <a:ext cx="7264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914160" y="3659040"/>
                  <a:ext cx="884160" cy="54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7798680" y="3659040"/>
                <a:ext cx="1016280" cy="542880"/>
                <a:chOff x="7798680" y="3659040"/>
                <a:chExt cx="1016280" cy="542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7877520" y="3659040"/>
                  <a:ext cx="85860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798680" y="3659040"/>
                  <a:ext cx="1016280" cy="54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880520" y="4201920"/>
                <a:ext cx="1214640" cy="444240"/>
                <a:chOff x="4880520" y="4201920"/>
                <a:chExt cx="1214640" cy="4442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959360" y="4201920"/>
                  <a:ext cx="10569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880520" y="4201920"/>
                  <a:ext cx="12146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6095520" y="4201920"/>
                <a:ext cx="818280" cy="444240"/>
                <a:chOff x="6095520" y="4201920"/>
                <a:chExt cx="818280" cy="44424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174360" y="4201920"/>
                  <a:ext cx="66024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095520" y="4201920"/>
                  <a:ext cx="8182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914160" y="4201920"/>
                <a:ext cx="884160" cy="444240"/>
                <a:chOff x="6914160" y="4201920"/>
                <a:chExt cx="884160" cy="4442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993000" y="4201920"/>
                  <a:ext cx="72648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914160" y="4201920"/>
                  <a:ext cx="884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7798680" y="4201920"/>
                <a:ext cx="1016280" cy="444240"/>
                <a:chOff x="7798680" y="4201920"/>
                <a:chExt cx="1016280" cy="4442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877520" y="4201920"/>
                  <a:ext cx="8586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5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98680" y="4201920"/>
                  <a:ext cx="10162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8" name=""/>
            <p:cNvSpPr/>
            <p:nvPr/>
          </p:nvSpPr>
          <p:spPr>
            <a:xfrm>
              <a:off x="4876920" y="3657600"/>
              <a:ext cx="3942720" cy="990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85800" y="2209680"/>
            <a:ext cx="3504960" cy="914400"/>
            <a:chOff x="685800" y="2209680"/>
            <a:chExt cx="3504960" cy="914400"/>
          </a:xfrm>
        </p:grpSpPr>
        <p:grpSp>
          <p:nvGrpSpPr>
            <p:cNvPr id="590" name=""/>
            <p:cNvGrpSpPr/>
            <p:nvPr/>
          </p:nvGrpSpPr>
          <p:grpSpPr>
            <a:xfrm>
              <a:off x="689040" y="2211120"/>
              <a:ext cx="3497760" cy="911520"/>
              <a:chOff x="689040" y="2211120"/>
              <a:chExt cx="3497760" cy="91152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689040" y="2211120"/>
                <a:ext cx="1204200" cy="538560"/>
                <a:chOff x="689040" y="2211120"/>
                <a:chExt cx="1204200" cy="538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3200" y="2211120"/>
                  <a:ext cx="105552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89040" y="2211120"/>
                  <a:ext cx="120420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893600" y="2211120"/>
                <a:ext cx="707040" cy="538560"/>
                <a:chOff x="1893600" y="2211120"/>
                <a:chExt cx="707040" cy="5385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67760" y="2211120"/>
                  <a:ext cx="55836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893600" y="2211120"/>
                  <a:ext cx="70704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2601000" y="2211120"/>
                <a:ext cx="769320" cy="538560"/>
                <a:chOff x="2601000" y="2211120"/>
                <a:chExt cx="769320" cy="5385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675160" y="2211120"/>
                  <a:ext cx="62064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601000" y="2211120"/>
                  <a:ext cx="76932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3371040" y="2211120"/>
                <a:ext cx="815760" cy="538560"/>
                <a:chOff x="3371040" y="2211120"/>
                <a:chExt cx="815760" cy="538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444840" y="2211120"/>
                  <a:ext cx="66780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371040" y="2211120"/>
                  <a:ext cx="81576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689040" y="2749680"/>
                <a:ext cx="1204200" cy="372960"/>
                <a:chOff x="689040" y="2749680"/>
                <a:chExt cx="1204200" cy="3729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63200" y="2749680"/>
                  <a:ext cx="105552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89040" y="2749680"/>
                  <a:ext cx="120420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893600" y="2749680"/>
                <a:ext cx="707040" cy="372960"/>
                <a:chOff x="1893600" y="2749680"/>
                <a:chExt cx="707040" cy="3729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67760" y="2749680"/>
                  <a:ext cx="55836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2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893600" y="2749680"/>
                  <a:ext cx="70704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2601000" y="2749680"/>
                <a:ext cx="769320" cy="372960"/>
                <a:chOff x="2601000" y="2749680"/>
                <a:chExt cx="769320" cy="3729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2675160" y="2749680"/>
                  <a:ext cx="62064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601000" y="2749680"/>
                  <a:ext cx="76932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3371040" y="2749680"/>
                <a:ext cx="815760" cy="372960"/>
                <a:chOff x="3371040" y="2749680"/>
                <a:chExt cx="815760" cy="3729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3444840" y="2749680"/>
                  <a:ext cx="66780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8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371040" y="2749680"/>
                  <a:ext cx="81576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5" name=""/>
            <p:cNvSpPr/>
            <p:nvPr/>
          </p:nvSpPr>
          <p:spPr>
            <a:xfrm>
              <a:off x="685800" y="2209680"/>
              <a:ext cx="3504960" cy="914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85800" y="3733920"/>
            <a:ext cx="3580920" cy="914400"/>
            <a:chOff x="685800" y="3733920"/>
            <a:chExt cx="3580920" cy="914400"/>
          </a:xfrm>
        </p:grpSpPr>
        <p:grpSp>
          <p:nvGrpSpPr>
            <p:cNvPr id="617" name=""/>
            <p:cNvGrpSpPr/>
            <p:nvPr/>
          </p:nvGrpSpPr>
          <p:grpSpPr>
            <a:xfrm>
              <a:off x="689040" y="3735360"/>
              <a:ext cx="3573720" cy="911520"/>
              <a:chOff x="689040" y="3735360"/>
              <a:chExt cx="3573720" cy="91152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689040" y="3735360"/>
                <a:ext cx="1230120" cy="538560"/>
                <a:chOff x="689040" y="3735360"/>
                <a:chExt cx="1230120" cy="538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764640" y="3735360"/>
                  <a:ext cx="107820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nswer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89040" y="3735360"/>
                  <a:ext cx="123012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1919520" y="3735360"/>
                <a:ext cx="722520" cy="538560"/>
                <a:chOff x="1919520" y="3735360"/>
                <a:chExt cx="722520" cy="5385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1995480" y="3735360"/>
                  <a:ext cx="57060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919520" y="3735360"/>
                  <a:ext cx="72252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642760" y="3735360"/>
                <a:ext cx="785880" cy="538560"/>
                <a:chOff x="2642760" y="3735360"/>
                <a:chExt cx="785880" cy="5385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718360" y="3735360"/>
                  <a:ext cx="63396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642760" y="3735360"/>
                  <a:ext cx="78588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3429000" y="3735360"/>
                <a:ext cx="833760" cy="538560"/>
                <a:chOff x="3429000" y="3735360"/>
                <a:chExt cx="833760" cy="5385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3504240" y="3735360"/>
                  <a:ext cx="682200" cy="53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29000" y="3735360"/>
                  <a:ext cx="833760" cy="53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689040" y="4273920"/>
                <a:ext cx="1230120" cy="372960"/>
                <a:chOff x="689040" y="4273920"/>
                <a:chExt cx="1230120" cy="3729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64640" y="4273920"/>
                  <a:ext cx="107820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89040" y="4273920"/>
                  <a:ext cx="123012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1919520" y="4273920"/>
                <a:ext cx="722520" cy="372960"/>
                <a:chOff x="1919520" y="4273920"/>
                <a:chExt cx="722520" cy="372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995480" y="4273920"/>
                  <a:ext cx="57060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27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919520" y="4273920"/>
                  <a:ext cx="72252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642760" y="4273920"/>
                <a:ext cx="785880" cy="372960"/>
                <a:chOff x="2642760" y="4273920"/>
                <a:chExt cx="785880" cy="3729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18360" y="4273920"/>
                  <a:ext cx="63396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1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642760" y="4273920"/>
                  <a:ext cx="78588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429000" y="4273920"/>
                <a:ext cx="833760" cy="372960"/>
                <a:chOff x="3429000" y="4273920"/>
                <a:chExt cx="833760" cy="372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504240" y="4273920"/>
                  <a:ext cx="682200" cy="3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429000" y="4273920"/>
                  <a:ext cx="833760" cy="3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685800" y="3733920"/>
              <a:ext cx="3580920" cy="914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905120" y="4724280"/>
            <a:ext cx="44956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verage performance of WAG sentence answer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876920" y="5257800"/>
            <a:ext cx="3961800" cy="1143000"/>
            <a:chOff x="4876920" y="5257800"/>
            <a:chExt cx="3961800" cy="1143000"/>
          </a:xfrm>
        </p:grpSpPr>
        <p:grpSp>
          <p:nvGrpSpPr>
            <p:cNvPr id="645" name=""/>
            <p:cNvGrpSpPr/>
            <p:nvPr/>
          </p:nvGrpSpPr>
          <p:grpSpPr>
            <a:xfrm>
              <a:off x="4880880" y="5259600"/>
              <a:ext cx="3953520" cy="1138680"/>
              <a:chOff x="4880880" y="5259600"/>
              <a:chExt cx="3953520" cy="113868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4880880" y="5259600"/>
                <a:ext cx="1290600" cy="626040"/>
                <a:chOff x="4880880" y="5259600"/>
                <a:chExt cx="1290600" cy="62604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964760" y="5259600"/>
                  <a:ext cx="112320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880880" y="5259600"/>
                  <a:ext cx="129060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171840" y="5259600"/>
                <a:ext cx="869400" cy="626040"/>
                <a:chOff x="6171840" y="5259600"/>
                <a:chExt cx="869400" cy="6260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255720" y="5259600"/>
                  <a:ext cx="70164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71840" y="5259600"/>
                  <a:ext cx="86940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7041960" y="5259600"/>
                <a:ext cx="939600" cy="626040"/>
                <a:chOff x="7041960" y="5259600"/>
                <a:chExt cx="939600" cy="6260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7125840" y="5259600"/>
                  <a:ext cx="77220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041960" y="5259600"/>
                  <a:ext cx="93960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981920" y="5259600"/>
                <a:ext cx="852480" cy="626040"/>
                <a:chOff x="7981920" y="5259600"/>
                <a:chExt cx="852480" cy="6260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065800" y="5259600"/>
                  <a:ext cx="684360" cy="6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981920" y="5259600"/>
                  <a:ext cx="852480" cy="6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880880" y="5885640"/>
                <a:ext cx="1290600" cy="512640"/>
                <a:chOff x="4880880" y="5885640"/>
                <a:chExt cx="1290600" cy="5126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964760" y="5885640"/>
                  <a:ext cx="112320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880880" y="5885640"/>
                  <a:ext cx="129060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6171840" y="5885640"/>
                <a:ext cx="869400" cy="512640"/>
                <a:chOff x="6171840" y="5885640"/>
                <a:chExt cx="869400" cy="5126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6255720" y="5885640"/>
                  <a:ext cx="7016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8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171840" y="5885640"/>
                  <a:ext cx="86940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7041960" y="5885640"/>
                <a:ext cx="939600" cy="512640"/>
                <a:chOff x="7041960" y="5885640"/>
                <a:chExt cx="939600" cy="5126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7125840" y="5885640"/>
                  <a:ext cx="77220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041960" y="5885640"/>
                  <a:ext cx="93960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81920" y="5885640"/>
                <a:ext cx="852480" cy="512640"/>
                <a:chOff x="7981920" y="5885640"/>
                <a:chExt cx="852480" cy="5126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065800" y="5885640"/>
                  <a:ext cx="68436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72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81920" y="5885640"/>
                  <a:ext cx="8524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4876920" y="5257800"/>
              <a:ext cx="3961800" cy="1143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71" name="wag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457200" cy="31284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685800" y="5334120"/>
            <a:ext cx="3733560" cy="1218960"/>
            <a:chOff x="685800" y="5334120"/>
            <a:chExt cx="3733560" cy="1218960"/>
          </a:xfrm>
        </p:grpSpPr>
        <p:grpSp>
          <p:nvGrpSpPr>
            <p:cNvPr id="673" name=""/>
            <p:cNvGrpSpPr/>
            <p:nvPr/>
          </p:nvGrpSpPr>
          <p:grpSpPr>
            <a:xfrm>
              <a:off x="689400" y="5335920"/>
              <a:ext cx="3726000" cy="1214640"/>
              <a:chOff x="689400" y="5335920"/>
              <a:chExt cx="3726000" cy="121464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689400" y="5335920"/>
                <a:ext cx="1282680" cy="717480"/>
                <a:chOff x="689400" y="5335920"/>
                <a:chExt cx="1282680" cy="7174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768240" y="5335920"/>
                  <a:ext cx="112428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89400" y="5335920"/>
                  <a:ext cx="128268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1972440" y="5335920"/>
                <a:ext cx="753120" cy="717480"/>
                <a:chOff x="1972440" y="5335920"/>
                <a:chExt cx="753120" cy="7174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051280" y="5335920"/>
                  <a:ext cx="59472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972440" y="5335920"/>
                  <a:ext cx="75312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726280" y="5335920"/>
                <a:ext cx="819360" cy="717480"/>
                <a:chOff x="2726280" y="5335920"/>
                <a:chExt cx="819360" cy="7174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05120" y="5335920"/>
                  <a:ext cx="6609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726280" y="5335920"/>
                  <a:ext cx="81936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546360" y="5335920"/>
                <a:ext cx="869040" cy="717480"/>
                <a:chOff x="3546360" y="5335920"/>
                <a:chExt cx="869040" cy="71748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624840" y="5335920"/>
                  <a:ext cx="7113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546360" y="5335920"/>
                  <a:ext cx="86904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689400" y="6053400"/>
                <a:ext cx="1282680" cy="497160"/>
                <a:chOff x="689400" y="6053400"/>
                <a:chExt cx="1282680" cy="4971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68240" y="6053400"/>
                  <a:ext cx="11242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ll question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89400" y="6053400"/>
                  <a:ext cx="1282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1972440" y="6053400"/>
                <a:ext cx="753120" cy="497160"/>
                <a:chOff x="1972440" y="6053400"/>
                <a:chExt cx="753120" cy="4971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2051280" y="6053400"/>
                  <a:ext cx="59472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,15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72440" y="6053400"/>
                  <a:ext cx="75312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2726280" y="6053400"/>
                <a:ext cx="819360" cy="497160"/>
                <a:chOff x="2726280" y="6053400"/>
                <a:chExt cx="819360" cy="4971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805120" y="6053400"/>
                  <a:ext cx="6609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726280" y="6053400"/>
                  <a:ext cx="8193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3546360" y="6053400"/>
                <a:ext cx="869040" cy="497160"/>
                <a:chOff x="3546360" y="6053400"/>
                <a:chExt cx="869040" cy="4971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3624840" y="6053400"/>
                  <a:ext cx="7113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8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546360" y="6053400"/>
                  <a:ext cx="8690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8" name=""/>
            <p:cNvSpPr/>
            <p:nvPr/>
          </p:nvSpPr>
          <p:spPr>
            <a:xfrm>
              <a:off x="685800" y="5334120"/>
              <a:ext cx="3733560" cy="12189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99" name="wag" descr=""/>
          <p:cNvPicPr/>
          <p:nvPr/>
        </p:nvPicPr>
        <p:blipFill>
          <a:blip r:embed="rId6"/>
          <a:stretch/>
        </p:blipFill>
        <p:spPr>
          <a:xfrm>
            <a:off x="685800" y="5334120"/>
            <a:ext cx="53352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 of Evalu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038840" cy="53341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ogle in Restricted (3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G in Restric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53341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ogle in Extended (6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G in Exten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105520" y="4648320"/>
            <a:ext cx="3352320" cy="1371600"/>
            <a:chOff x="5105520" y="4648320"/>
            <a:chExt cx="3352320" cy="1371600"/>
          </a:xfrm>
        </p:grpSpPr>
        <p:grpSp>
          <p:nvGrpSpPr>
            <p:cNvPr id="704" name=""/>
            <p:cNvGrpSpPr/>
            <p:nvPr/>
          </p:nvGrpSpPr>
          <p:grpSpPr>
            <a:xfrm>
              <a:off x="5108760" y="4649400"/>
              <a:ext cx="3344760" cy="1368720"/>
              <a:chOff x="5108760" y="4649400"/>
              <a:chExt cx="3344760" cy="136872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5108760" y="4649400"/>
                <a:ext cx="1086840" cy="281520"/>
                <a:chOff x="5108760" y="4649400"/>
                <a:chExt cx="1086840" cy="281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184000" y="4649400"/>
                  <a:ext cx="93636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etric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108760" y="4649400"/>
                  <a:ext cx="1086840" cy="2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95960" y="4649400"/>
                <a:ext cx="1240560" cy="281520"/>
                <a:chOff x="6195960" y="4649400"/>
                <a:chExt cx="1240560" cy="2815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270840" y="4649400"/>
                  <a:ext cx="109044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 answe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95960" y="4649400"/>
                  <a:ext cx="1240560" cy="2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7436880" y="4649400"/>
                <a:ext cx="1016640" cy="281520"/>
                <a:chOff x="7436880" y="4649400"/>
                <a:chExt cx="1016640" cy="2815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11760" y="4649400"/>
                  <a:ext cx="86688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36880" y="4649400"/>
                  <a:ext cx="1016640" cy="2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108760" y="4930920"/>
                <a:ext cx="1086840" cy="362160"/>
                <a:chOff x="5108760" y="4930920"/>
                <a:chExt cx="1086840" cy="3621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184000" y="4930920"/>
                  <a:ext cx="9363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 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108760" y="4930920"/>
                  <a:ext cx="10868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95960" y="4930920"/>
                <a:ext cx="1240560" cy="362160"/>
                <a:chOff x="6195960" y="4930920"/>
                <a:chExt cx="1240560" cy="3621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270840" y="4930920"/>
                  <a:ext cx="10904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2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95960" y="4930920"/>
                  <a:ext cx="12405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7436880" y="4930920"/>
                <a:ext cx="1016640" cy="362160"/>
                <a:chOff x="7436880" y="4930920"/>
                <a:chExt cx="1016640" cy="362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11760" y="4930920"/>
                  <a:ext cx="86688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6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436880" y="4930920"/>
                  <a:ext cx="1016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5108760" y="5293440"/>
                <a:ext cx="1086840" cy="362160"/>
                <a:chOff x="5108760" y="5293440"/>
                <a:chExt cx="1086840" cy="362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5184000" y="5293440"/>
                  <a:ext cx="9363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08760" y="5293440"/>
                  <a:ext cx="10868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95960" y="5293440"/>
                <a:ext cx="1240560" cy="362160"/>
                <a:chOff x="6195960" y="5293440"/>
                <a:chExt cx="1240560" cy="362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270840" y="5293440"/>
                  <a:ext cx="10904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9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95960" y="5293440"/>
                  <a:ext cx="12405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7436880" y="5293440"/>
                <a:ext cx="1016640" cy="362160"/>
                <a:chOff x="7436880" y="5293440"/>
                <a:chExt cx="1016640" cy="3621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11760" y="5293440"/>
                  <a:ext cx="86688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6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436880" y="5293440"/>
                  <a:ext cx="1016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108760" y="5655960"/>
                <a:ext cx="1086840" cy="362160"/>
                <a:chOff x="5108760" y="5655960"/>
                <a:chExt cx="1086840" cy="36216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184000" y="5655960"/>
                  <a:ext cx="9363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108760" y="5655960"/>
                  <a:ext cx="10868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95960" y="5655960"/>
                <a:ext cx="1240560" cy="362160"/>
                <a:chOff x="6195960" y="5655960"/>
                <a:chExt cx="1240560" cy="36216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270840" y="5655960"/>
                  <a:ext cx="10904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4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95960" y="5655960"/>
                  <a:ext cx="12405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7436880" y="5655960"/>
                <a:ext cx="1016640" cy="362160"/>
                <a:chOff x="7436880" y="5655960"/>
                <a:chExt cx="1016640" cy="3621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11760" y="5655960"/>
                  <a:ext cx="86688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6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436880" y="5655960"/>
                  <a:ext cx="101664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1" name=""/>
            <p:cNvSpPr/>
            <p:nvPr/>
          </p:nvSpPr>
          <p:spPr>
            <a:xfrm>
              <a:off x="5105520" y="4648320"/>
              <a:ext cx="3352320" cy="1371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90720" y="4724280"/>
            <a:ext cx="3352320" cy="1295640"/>
            <a:chOff x="990720" y="4724280"/>
            <a:chExt cx="3352320" cy="1295640"/>
          </a:xfrm>
        </p:grpSpPr>
        <p:grpSp>
          <p:nvGrpSpPr>
            <p:cNvPr id="743" name=""/>
            <p:cNvGrpSpPr/>
            <p:nvPr/>
          </p:nvGrpSpPr>
          <p:grpSpPr>
            <a:xfrm>
              <a:off x="993960" y="4725360"/>
              <a:ext cx="3344760" cy="1292760"/>
              <a:chOff x="993960" y="4725360"/>
              <a:chExt cx="3344760" cy="129276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993960" y="4725360"/>
                <a:ext cx="1086840" cy="266040"/>
                <a:chOff x="993960" y="4725360"/>
                <a:chExt cx="1086840" cy="266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069200" y="4725360"/>
                  <a:ext cx="93636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etric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993960" y="4725360"/>
                  <a:ext cx="10868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2081160" y="4725360"/>
                <a:ext cx="1240560" cy="266040"/>
                <a:chOff x="2081160" y="4725360"/>
                <a:chExt cx="1240560" cy="266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2156040" y="4725360"/>
                  <a:ext cx="109044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xact answer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081160" y="4725360"/>
                  <a:ext cx="124056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3322080" y="4725360"/>
                <a:ext cx="1016640" cy="266040"/>
                <a:chOff x="3322080" y="4725360"/>
                <a:chExt cx="1016640" cy="2660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3396960" y="4725360"/>
                  <a:ext cx="866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entenc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322080" y="4725360"/>
                  <a:ext cx="10166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993960" y="4991400"/>
                <a:ext cx="1086840" cy="342000"/>
                <a:chOff x="993960" y="4991400"/>
                <a:chExt cx="1086840" cy="342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1069200" y="4991400"/>
                  <a:ext cx="9363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 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93960" y="4991400"/>
                  <a:ext cx="1086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2081160" y="4991400"/>
                <a:ext cx="1240560" cy="342000"/>
                <a:chOff x="2081160" y="4991400"/>
                <a:chExt cx="1240560" cy="3420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156040" y="4991400"/>
                  <a:ext cx="10904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74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081160" y="4991400"/>
                  <a:ext cx="12405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322080" y="4991400"/>
                <a:ext cx="1016640" cy="342000"/>
                <a:chOff x="3322080" y="4991400"/>
                <a:chExt cx="1016640" cy="3420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396960" y="4991400"/>
                  <a:ext cx="86688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7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322080" y="4991400"/>
                  <a:ext cx="10166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993960" y="5333760"/>
                <a:ext cx="1086840" cy="342360"/>
                <a:chOff x="993960" y="5333760"/>
                <a:chExt cx="1086840" cy="34236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69200" y="5333760"/>
                  <a:ext cx="93636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993960" y="5333760"/>
                  <a:ext cx="1086840" cy="34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081160" y="5333760"/>
                <a:ext cx="1240560" cy="342360"/>
                <a:chOff x="2081160" y="5333760"/>
                <a:chExt cx="1240560" cy="34236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156040" y="5333760"/>
                  <a:ext cx="109044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081160" y="5333760"/>
                  <a:ext cx="1240560" cy="34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3322080" y="5333760"/>
                <a:ext cx="1016640" cy="342360"/>
                <a:chOff x="3322080" y="5333760"/>
                <a:chExt cx="1016640" cy="3423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3396960" y="5333760"/>
                  <a:ext cx="86688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322080" y="5333760"/>
                  <a:ext cx="1016640" cy="34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993960" y="5676120"/>
                <a:ext cx="1086840" cy="342000"/>
                <a:chOff x="993960" y="5676120"/>
                <a:chExt cx="1086840" cy="3420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069200" y="5676120"/>
                  <a:ext cx="9363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993960" y="5676120"/>
                  <a:ext cx="1086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081160" y="5676120"/>
                <a:ext cx="1240560" cy="342000"/>
                <a:chOff x="2081160" y="5676120"/>
                <a:chExt cx="1240560" cy="342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156040" y="5676120"/>
                  <a:ext cx="10904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8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081160" y="5676120"/>
                  <a:ext cx="12405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322080" y="5676120"/>
                <a:ext cx="1016640" cy="342000"/>
                <a:chOff x="3322080" y="5676120"/>
                <a:chExt cx="1016640" cy="3420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396960" y="5676120"/>
                  <a:ext cx="86688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322080" y="5676120"/>
                  <a:ext cx="10166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0" name=""/>
            <p:cNvSpPr/>
            <p:nvPr/>
          </p:nvSpPr>
          <p:spPr>
            <a:xfrm>
              <a:off x="990720" y="4724280"/>
              <a:ext cx="3352320" cy="12956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781" name="logo" descr=""/>
          <p:cNvPicPr/>
          <p:nvPr/>
        </p:nvPicPr>
        <p:blipFill>
          <a:blip r:embed="rId5"/>
          <a:stretch/>
        </p:blipFill>
        <p:spPr>
          <a:xfrm>
            <a:off x="1066680" y="1600200"/>
            <a:ext cx="990720" cy="446040"/>
          </a:xfrm>
          <a:prstGeom prst="rect">
            <a:avLst/>
          </a:prstGeom>
          <a:ln w="0">
            <a:noFill/>
          </a:ln>
        </p:spPr>
      </p:pic>
      <p:pic>
        <p:nvPicPr>
          <p:cNvPr id="782" name="logo" descr=""/>
          <p:cNvPicPr/>
          <p:nvPr/>
        </p:nvPicPr>
        <p:blipFill>
          <a:blip r:embed="rId6"/>
          <a:stretch/>
        </p:blipFill>
        <p:spPr>
          <a:xfrm>
            <a:off x="5029200" y="1600200"/>
            <a:ext cx="990720" cy="446040"/>
          </a:xfrm>
          <a:prstGeom prst="rect">
            <a:avLst/>
          </a:prstGeom>
          <a:ln w="0">
            <a:noFill/>
          </a:ln>
        </p:spPr>
      </p:pic>
      <p:pic>
        <p:nvPicPr>
          <p:cNvPr id="783" name="wag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761760" cy="469800"/>
          </a:xfrm>
          <a:prstGeom prst="rect">
            <a:avLst/>
          </a:prstGeom>
          <a:ln w="0">
            <a:noFill/>
          </a:ln>
        </p:spPr>
      </p:pic>
      <p:pic>
        <p:nvPicPr>
          <p:cNvPr id="784" name="wag" descr=""/>
          <p:cNvPicPr/>
          <p:nvPr/>
        </p:nvPicPr>
        <p:blipFill>
          <a:blip r:embed="rId8"/>
          <a:stretch/>
        </p:blipFill>
        <p:spPr>
          <a:xfrm>
            <a:off x="5029200" y="4114800"/>
            <a:ext cx="762120" cy="46980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5334120" y="2133720"/>
            <a:ext cx="2895120" cy="1523880"/>
            <a:chOff x="5334120" y="2133720"/>
            <a:chExt cx="2895120" cy="1523880"/>
          </a:xfrm>
        </p:grpSpPr>
        <p:grpSp>
          <p:nvGrpSpPr>
            <p:cNvPr id="786" name=""/>
            <p:cNvGrpSpPr/>
            <p:nvPr/>
          </p:nvGrpSpPr>
          <p:grpSpPr>
            <a:xfrm>
              <a:off x="5338440" y="2135160"/>
              <a:ext cx="2885760" cy="1520640"/>
              <a:chOff x="5338440" y="2135160"/>
              <a:chExt cx="2885760" cy="152064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5338440" y="2135160"/>
                <a:ext cx="1347480" cy="312840"/>
                <a:chOff x="5338440" y="2135160"/>
                <a:chExt cx="1347480" cy="3128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431680" y="2135160"/>
                  <a:ext cx="11610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etric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38440" y="2135160"/>
                  <a:ext cx="134748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686280" y="2135160"/>
                <a:ext cx="1537920" cy="312840"/>
                <a:chOff x="6686280" y="2135160"/>
                <a:chExt cx="1537920" cy="312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778800" y="2135160"/>
                  <a:ext cx="13518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nippe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686280" y="2135160"/>
                  <a:ext cx="1537920" cy="31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5338440" y="2448000"/>
                <a:ext cx="1347480" cy="402480"/>
                <a:chOff x="5338440" y="2448000"/>
                <a:chExt cx="1347480" cy="40248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5431680" y="2448000"/>
                  <a:ext cx="11610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 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338440" y="2448000"/>
                  <a:ext cx="134748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6686280" y="2448000"/>
                <a:ext cx="1537920" cy="402480"/>
                <a:chOff x="6686280" y="2448000"/>
                <a:chExt cx="1537920" cy="40248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778800" y="2448000"/>
                  <a:ext cx="13518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136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686280" y="2448000"/>
                  <a:ext cx="153792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338440" y="2850480"/>
                <a:ext cx="1347480" cy="402480"/>
                <a:chOff x="5338440" y="2850480"/>
                <a:chExt cx="1347480" cy="40248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431680" y="2850480"/>
                  <a:ext cx="11610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338440" y="2850480"/>
                  <a:ext cx="134748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6686280" y="2850480"/>
                <a:ext cx="1537920" cy="402480"/>
                <a:chOff x="6686280" y="2850480"/>
                <a:chExt cx="1537920" cy="4024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6778800" y="2850480"/>
                  <a:ext cx="13518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310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686280" y="2850480"/>
                  <a:ext cx="153792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5338440" y="3253320"/>
                <a:ext cx="1347480" cy="402480"/>
                <a:chOff x="5338440" y="3253320"/>
                <a:chExt cx="1347480" cy="40248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431680" y="3253320"/>
                  <a:ext cx="11610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338440" y="3253320"/>
                  <a:ext cx="134748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6686280" y="3253320"/>
                <a:ext cx="1537920" cy="402480"/>
                <a:chOff x="6686280" y="3253320"/>
                <a:chExt cx="1537920" cy="4024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778800" y="3253320"/>
                  <a:ext cx="1351800" cy="40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6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686280" y="3253320"/>
                  <a:ext cx="1537920" cy="40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1" name=""/>
            <p:cNvSpPr/>
            <p:nvPr/>
          </p:nvSpPr>
          <p:spPr>
            <a:xfrm>
              <a:off x="5334120" y="2133720"/>
              <a:ext cx="2895120" cy="15238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295280" y="2286000"/>
            <a:ext cx="2666880" cy="1371600"/>
            <a:chOff x="1295280" y="2286000"/>
            <a:chExt cx="2666880" cy="1371600"/>
          </a:xfrm>
        </p:grpSpPr>
        <p:grpSp>
          <p:nvGrpSpPr>
            <p:cNvPr id="813" name=""/>
            <p:cNvGrpSpPr/>
            <p:nvPr/>
          </p:nvGrpSpPr>
          <p:grpSpPr>
            <a:xfrm>
              <a:off x="1299240" y="2287080"/>
              <a:ext cx="2657880" cy="1368720"/>
              <a:chOff x="1299240" y="2287080"/>
              <a:chExt cx="2657880" cy="136872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1299240" y="2287080"/>
                <a:ext cx="1240920" cy="281520"/>
                <a:chOff x="1299240" y="2287080"/>
                <a:chExt cx="1240920" cy="2815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1384920" y="2287080"/>
                  <a:ext cx="106920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etric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299240" y="2287080"/>
                  <a:ext cx="1240920" cy="2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2540520" y="2287080"/>
                <a:ext cx="1416600" cy="281520"/>
                <a:chOff x="2540520" y="2287080"/>
                <a:chExt cx="1416600" cy="2815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2625840" y="2287080"/>
                  <a:ext cx="1245240" cy="2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nippe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540520" y="2287080"/>
                  <a:ext cx="1416600" cy="2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1299240" y="2568600"/>
                <a:ext cx="1240920" cy="362160"/>
                <a:chOff x="1299240" y="2568600"/>
                <a:chExt cx="1240920" cy="3621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384920" y="2568600"/>
                  <a:ext cx="10692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MRR (N=5)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299240" y="2568600"/>
                  <a:ext cx="124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2540520" y="2568600"/>
                <a:ext cx="1416600" cy="362160"/>
                <a:chOff x="2540520" y="2568600"/>
                <a:chExt cx="1416600" cy="3621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2625840" y="2568600"/>
                  <a:ext cx="12452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097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2540520" y="2568600"/>
                  <a:ext cx="1416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1299240" y="2931120"/>
                <a:ext cx="1240920" cy="362160"/>
                <a:chOff x="1299240" y="2931120"/>
                <a:chExt cx="1240920" cy="3621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1384920" y="2931120"/>
                  <a:ext cx="10692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1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299240" y="2931120"/>
                  <a:ext cx="124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0520" y="2931120"/>
                <a:ext cx="1416600" cy="362160"/>
                <a:chOff x="2540520" y="2931120"/>
                <a:chExt cx="1416600" cy="3621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625840" y="2931120"/>
                  <a:ext cx="12452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25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0520" y="2931120"/>
                  <a:ext cx="1416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1299240" y="3293640"/>
                <a:ext cx="1240920" cy="362160"/>
                <a:chOff x="1299240" y="3293640"/>
                <a:chExt cx="1240920" cy="36216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384920" y="3293640"/>
                  <a:ext cx="10692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all top3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299240" y="3293640"/>
                  <a:ext cx="12409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2540520" y="3293640"/>
                <a:ext cx="1416600" cy="362160"/>
                <a:chOff x="2540520" y="3293640"/>
                <a:chExt cx="1416600" cy="3621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625840" y="3293640"/>
                  <a:ext cx="124524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.435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540520" y="3293640"/>
                  <a:ext cx="14166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8" name=""/>
            <p:cNvSpPr/>
            <p:nvPr/>
          </p:nvSpPr>
          <p:spPr>
            <a:xfrm>
              <a:off x="1295280" y="2286000"/>
              <a:ext cx="2666880" cy="1371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Qualitative 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oes the Quiz Book provide actually valid answer key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Tradeoff between WAG answers and Quiz book answer key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ncompleteness of the provided answe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xact Answer and Sentence Answ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Sentence answer is more robust than exact ans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Exact answers provide more clear response in case of non-“well-formed” sente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Redundancy and Popular Informati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Majority polling alone is not sufficient to guarantee the correct ans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Most popular information will be ranked higher than the correct answer in some cas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phora Resolutio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Sentences maximally matched with queries contain sometimes anaphoric expressions instead of answers, therefore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aragraphs can be used as discourse context for anaphor resolution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Summary:</a:t>
            </a:r>
            <a:br>
              <a:rPr sz="4000"/>
            </a:b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the lesson we learned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Web-based answer extraction benefits from robust and efficient LT-techn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he better NE-recognition is, the better the answer extraction process is (wrt. coverage and fine-grainedn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Using a NE-anchored paragraph, sentence and phrase selection strategy helps 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Handling multiple docum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aking into account the redundancy on the We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cessing complex (list, template) ques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Motivation: From Search Engines to Answer Engi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19440" y="1467720"/>
            <a:ext cx="6943680" cy="4842720"/>
            <a:chOff x="1819440" y="1467720"/>
            <a:chExt cx="6943680" cy="4842720"/>
          </a:xfrm>
        </p:grpSpPr>
        <p:pic>
          <p:nvPicPr>
            <p:cNvPr id="212" name="UserInput" descr=""/>
            <p:cNvPicPr/>
            <p:nvPr/>
          </p:nvPicPr>
          <p:blipFill>
            <a:blip r:embed="rId1"/>
            <a:stretch/>
          </p:blipFill>
          <p:spPr>
            <a:xfrm>
              <a:off x="1819440" y="2071800"/>
              <a:ext cx="7808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WWW" descr=""/>
            <p:cNvPicPr/>
            <p:nvPr/>
          </p:nvPicPr>
          <p:blipFill>
            <a:blip r:embed="rId2"/>
            <a:stretch/>
          </p:blipFill>
          <p:spPr>
            <a:xfrm>
              <a:off x="6867360" y="1727280"/>
              <a:ext cx="113832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679120" y="1676520"/>
              <a:ext cx="288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User Query: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From KeyWrds to Wh-Claus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2" idx="3"/>
              <a:endCxn id="213" idx="0"/>
            </p:cNvCxnSpPr>
            <p:nvPr/>
          </p:nvCxnSpPr>
          <p:spPr>
            <a:xfrm flipV="1">
              <a:off x="2599920" y="1726920"/>
              <a:ext cx="4838040" cy="821520"/>
            </a:xfrm>
            <a:prstGeom prst="curvedConnector5">
              <a:avLst>
                <a:gd name="adj1" fmla="val 44113"/>
                <a:gd name="adj2" fmla="val 65760"/>
                <a:gd name="adj3" fmla="val 44113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pic>
          <p:nvPicPr>
            <p:cNvPr id="216" name="ManyDocuments" descr=""/>
            <p:cNvPicPr/>
            <p:nvPr/>
          </p:nvPicPr>
          <p:blipFill>
            <a:blip r:embed="rId3"/>
            <a:stretch/>
          </p:blipFill>
          <p:spPr>
            <a:xfrm>
              <a:off x="4664160" y="3971880"/>
              <a:ext cx="995400" cy="1209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"/>
            <p:cNvCxnSpPr>
              <a:stCxn id="213" idx="2"/>
              <a:endCxn id="216" idx="3"/>
            </p:cNvCxnSpPr>
            <p:nvPr/>
          </p:nvCxnSpPr>
          <p:spPr>
            <a:xfrm rot="5400000">
              <a:off x="5813640" y="2953080"/>
              <a:ext cx="1469160" cy="1778760"/>
            </a:xfrm>
            <a:prstGeom prst="curvedConnector2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5965200" y="3317760"/>
              <a:ext cx="163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Search Eng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548640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User stills carries the major efforts in understanding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20" name="MBj03877740000" descr=""/>
            <p:cNvPicPr/>
            <p:nvPr/>
          </p:nvPicPr>
          <p:blipFill>
            <a:blip r:embed="rId4"/>
            <a:stretch/>
          </p:blipFill>
          <p:spPr>
            <a:xfrm>
              <a:off x="7848720" y="464832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1" name=""/>
            <p:cNvCxnSpPr>
              <a:stCxn id="216" idx="3"/>
              <a:endCxn id="220" idx="1"/>
            </p:cNvCxnSpPr>
            <p:nvPr/>
          </p:nvCxnSpPr>
          <p:spPr>
            <a:xfrm>
              <a:off x="5659200" y="4576320"/>
              <a:ext cx="2189880" cy="49140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40458c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380880" y="2547360"/>
            <a:ext cx="4283280" cy="3367440"/>
            <a:chOff x="380880" y="2547360"/>
            <a:chExt cx="4283280" cy="3367440"/>
          </a:xfrm>
        </p:grpSpPr>
        <p:pic>
          <p:nvPicPr>
            <p:cNvPr id="223" name="ExactAnswer" descr=""/>
            <p:cNvPicPr/>
            <p:nvPr/>
          </p:nvPicPr>
          <p:blipFill>
            <a:blip r:embed="rId5"/>
            <a:stretch/>
          </p:blipFill>
          <p:spPr>
            <a:xfrm>
              <a:off x="1676520" y="3540240"/>
              <a:ext cx="1066680" cy="1295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4" name=""/>
            <p:cNvCxnSpPr>
              <a:stCxn id="216" idx="1"/>
              <a:endCxn id="223" idx="2"/>
            </p:cNvCxnSpPr>
            <p:nvPr/>
          </p:nvCxnSpPr>
          <p:spPr>
            <a:xfrm flipV="1" rot="10800000">
              <a:off x="2208960" y="4575600"/>
              <a:ext cx="2455200" cy="259560"/>
            </a:xfrm>
            <a:prstGeom prst="curvedConnector5">
              <a:avLst>
                <a:gd name="adj1" fmla="val 39125"/>
                <a:gd name="adj2" fmla="val 94166"/>
                <a:gd name="adj3" fmla="val 39125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2410560" y="4614840"/>
              <a:ext cx="16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Answer Eng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53341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40458c"/>
                  </a:solidFill>
                  <a:latin typeface="Tahoma"/>
                </a:rPr>
                <a:t>Shift more „interpretation effort“  to mach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23" idx="1"/>
              <a:endCxn id="212" idx="1"/>
            </p:cNvCxnSpPr>
            <p:nvPr/>
          </p:nvCxnSpPr>
          <p:spPr>
            <a:xfrm flipH="1" rot="10800000">
              <a:off x="1675440" y="2547360"/>
              <a:ext cx="143640" cy="1640520"/>
            </a:xfrm>
            <a:prstGeom prst="curvedConnector5">
              <a:avLst>
                <a:gd name="adj1" fmla="val -159798"/>
                <a:gd name="adj2" fmla="val 50000"/>
                <a:gd name="adj3" fmla="val -159798"/>
              </a:avLst>
            </a:prstGeom>
            <a:ln w="9360">
              <a:solidFill>
                <a:srgbClr val="40458c"/>
              </a:solidFill>
              <a:prstDash val="dashDot"/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380880" y="3200400"/>
              <a:ext cx="10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58c"/>
                  </a:solidFill>
                  <a:latin typeface="Tahoma"/>
                </a:rPr>
                <a:t>contextual QA cycl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Towards Cross-language Template-based Q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ross-language web-based Q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anguage independent answer prediction strategies (not her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b-based Dynamic Information Ex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Specification of multi-slot ques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xtraction/Merging of (partial) templa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Single insta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Multiple instances (list-based template merging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irst prototype, not yet evalu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Query-Specification: Multiple Expected Answer Typ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2438280" y="1828800"/>
          <a:ext cx="6058080" cy="43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605808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1295280" y="1295280"/>
            <a:ext cx="1219320" cy="2819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1295280"/>
            <a:ext cx="1447920" cy="3276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1295280"/>
            <a:ext cx="1600200" cy="3657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2120" y="1295280"/>
            <a:ext cx="1752480" cy="3962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Ranking according to all processed NE typ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838080" y="1752480"/>
          <a:ext cx="7010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010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Template extraction through merg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838080" y="2438280"/>
          <a:ext cx="6019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6019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8" name=""/>
          <p:cNvSpPr/>
          <p:nvPr/>
        </p:nvSpPr>
        <p:spPr>
          <a:xfrm>
            <a:off x="6954840" y="3657600"/>
            <a:ext cx="230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o far: Do hand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ingle Instance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in single sent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Next step: merging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of partial templat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343400" y="4114800"/>
            <a:ext cx="2666880" cy="533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Done –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Thank you for your attention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66"/>
                </a:solidFill>
                <a:latin typeface="Tahoma"/>
              </a:rPr>
              <a:t>WAG Example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Paragraph retrieval for template extraction/template merging/template mining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ahoma"/>
              </a:rPr>
              <a:t>sentence</a:t>
            </a: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&gt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ecd882"/>
                </a:solidFill>
                <a:latin typeface="Tahoma"/>
              </a:rPr>
              <a:t>&lt;DATE&gt;</a:t>
            </a:r>
            <a:r>
              <a:rPr b="1" lang="en-GB" sz="1400" spc="-1" strike="noStrike">
                <a:solidFill>
                  <a:srgbClr val="ecd882"/>
                </a:solidFill>
                <a:latin typeface="Tahoma"/>
              </a:rPr>
              <a:t>10.2000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ecd882"/>
                </a:solidFill>
                <a:latin typeface="Tahoma"/>
              </a:rPr>
              <a:t>&lt;/DATE&gt; 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ChemieChemie-Nobelpreis 2000: Elektrisch leitende Kunststoffe koennten die Technik des 21. Jahrhunderts bestimmen Durch die Entdeckung leitfaehiger Kunststoffe haben die </a:t>
            </a:r>
            <a:r>
              <a:rPr b="1" lang="en-GB" sz="1400" spc="-1" strike="noStrike">
                <a:solidFill>
                  <a:srgbClr val="ff0000"/>
                </a:solidFill>
                <a:latin typeface="Tahoma"/>
              </a:rPr>
              <a:t>beiden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b2b2b2"/>
                </a:solidFill>
                <a:latin typeface="Tahoma"/>
              </a:rPr>
              <a:t>&lt;Nationality&gt;US-Amerikaner&lt;/Nationality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Tahoma"/>
              </a:rPr>
              <a:t>&lt;PN&gt;Alan Heeger &lt;/P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von der </a:t>
            </a:r>
            <a:r>
              <a:rPr b="1" lang="en-GB" sz="1400" spc="-1" strike="noStrike">
                <a:solidFill>
                  <a:srgbClr val="ff6600"/>
                </a:solidFill>
                <a:latin typeface="Tahoma"/>
              </a:rPr>
              <a:t>&lt;Organization&gt; Universitaet von Kalifornien &lt;/Organizatio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 in </a:t>
            </a:r>
            <a:r>
              <a:rPr b="1" lang="en-GB" sz="1400" spc="-1" strike="noStrike">
                <a:solidFill>
                  <a:srgbClr val="336699"/>
                </a:solidFill>
                <a:latin typeface="Tahoma"/>
              </a:rPr>
              <a:t>&lt;Location&gt;Santa Barbara &lt;/Locatio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und </a:t>
            </a:r>
            <a:r>
              <a:rPr b="1" lang="en-GB" sz="1400" spc="-1" strike="noStrike">
                <a:solidFill>
                  <a:srgbClr val="660033"/>
                </a:solidFill>
                <a:latin typeface="Tahoma"/>
              </a:rPr>
              <a:t>&lt;PN&gt; Alan MacDiarmid &lt;/P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von der </a:t>
            </a:r>
            <a:r>
              <a:rPr b="1" lang="en-GB" sz="1400" spc="-1" strike="noStrike">
                <a:solidFill>
                  <a:srgbClr val="ff6600"/>
                </a:solidFill>
                <a:latin typeface="Tahoma"/>
              </a:rPr>
              <a:t>&lt;Organization&gt; Universitaet von Pennsylvania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ff6600"/>
                </a:solidFill>
                <a:latin typeface="Tahoma"/>
              </a:rPr>
              <a:t>&lt;/Organizatio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und der </a:t>
            </a:r>
            <a:r>
              <a:rPr b="1" lang="en-GB" sz="1400" spc="-1" strike="noStrike">
                <a:solidFill>
                  <a:srgbClr val="b2b2b2"/>
                </a:solidFill>
                <a:latin typeface="Tahoma"/>
              </a:rPr>
              <a:t>&lt;Nationality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Japaner </a:t>
            </a:r>
            <a:r>
              <a:rPr b="1" lang="en-GB" sz="1400" spc="-1" strike="noStrike">
                <a:solidFill>
                  <a:srgbClr val="b2b2b2"/>
                </a:solidFill>
                <a:latin typeface="Tahoma"/>
              </a:rPr>
              <a:t>&lt;/Nationality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Tahoma"/>
              </a:rPr>
              <a:t>&lt;P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Tahoma"/>
              </a:rPr>
              <a:t>Hideki Shirakawa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660033"/>
                </a:solidFill>
                <a:latin typeface="Tahoma"/>
              </a:rPr>
              <a:t>&lt;/P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von der </a:t>
            </a:r>
            <a:r>
              <a:rPr b="1" lang="en-GB" sz="1400" spc="-1" strike="noStrike">
                <a:solidFill>
                  <a:srgbClr val="ff6600"/>
                </a:solidFill>
                <a:latin typeface="Tahoma"/>
              </a:rPr>
              <a:t>&lt;Organization&gt; Universitaet Tsukuba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ff6600"/>
                </a:solidFill>
                <a:latin typeface="Tahoma"/>
              </a:rPr>
              <a:t>&lt;/Organization&gt;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 Anwendungen wie Leuchtdioden oder Anzeigendisplays in Mobiltelefonen moeglich gemacht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ahoma"/>
              </a:rPr>
              <a:t>sentence</a:t>
            </a: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[PersonName: Alan Heeg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Organization: </a:t>
            </a:r>
            <a:r>
              <a:rPr b="1" lang="en-GB" sz="1400" spc="-1" strike="noStrike">
                <a:solidFill>
                  <a:srgbClr val="669900"/>
                </a:solidFill>
                <a:latin typeface="Tahoma"/>
              </a:rPr>
              <a:t>Universitaet von Kalifornien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Location: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Santa Barbar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     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Nationality:  US-Amerikane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[PersonName Alan MacDiarmi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Organization </a:t>
            </a:r>
            <a:r>
              <a:rPr b="1" lang="en-GB" sz="1400" spc="-1" strike="noStrike">
                <a:solidFill>
                  <a:srgbClr val="669900"/>
                </a:solidFill>
                <a:latin typeface="Tahoma"/>
              </a:rPr>
              <a:t>Universitaet von Pennsylvani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Location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Santa Barbar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      </a:t>
            </a:r>
            <a:r>
              <a:rPr b="1" lang="en-GB" sz="1600" spc="-1" strike="noStrike">
                <a:solidFill>
                  <a:srgbClr val="669900"/>
                </a:solidFill>
                <a:latin typeface="Tahoma"/>
              </a:rPr>
              <a:t>Nationality  US-Amerikane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3429000"/>
            <a:ext cx="381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Times New Roman"/>
              </a:rPr>
              <a:t>[PersonName Hideki Shirakaw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Times New Roman"/>
              </a:rPr>
              <a:t>Organization Universitaet Tsukub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Times New Roman"/>
              </a:rPr>
              <a:t>Location         Santa Barba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669900"/>
                </a:solidFill>
                <a:latin typeface="Times New Roman"/>
              </a:rPr>
              <a:t>Nationality     Japaner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WAG the Web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752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Web-based answer extraction system for extracting sentence and exact answers from German/(English) web pag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allow question/answering approac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amed Entity (NE)-recognition and morpho-syntactic analysis as linguistic preprocess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E-based inverted index for paragraph, sentence and answer selection (NE-based „text zooming“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Token/NE overlap approach for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xact answer string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pproach can be scaled up for processing different questions types (factoid, list, template question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aluation using question-answer pairs extracted from a popular German quiz bo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Query Formul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622440" y="152388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99"/>
                </a:solidFill>
                <a:latin typeface="Times New Roman"/>
              </a:rPr>
              <a:t>Who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n the Nobel Prize 2000 in chemistry?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7664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90720" y="3124080"/>
                <a:ext cx="76197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k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on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k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obel  Prize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NE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00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k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hemistry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NE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:</m:t>
                                        </m:r>
                                      </m:e>
                                      <m:e>
                                        <m:r>
                                          <m:t xml:space="preserve">?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62120" y="4495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Expected answer type (EAT) as NE-type with value 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23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will be expressed as: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86040" y="3733920"/>
            <a:ext cx="259092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410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Also possible: </a:t>
            </a:r>
            <a:br>
              <a:rPr sz="2800"/>
            </a:b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multiple EATs (for template-based questio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WAG‘s Control Flow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752480"/>
            <a:ext cx="144756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Que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formula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752480"/>
            <a:ext cx="129564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Googl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1752480"/>
            <a:ext cx="129528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Shallow N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352680"/>
            <a:ext cx="129564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Paragrap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filter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3352680"/>
            <a:ext cx="129528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rank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4952880"/>
            <a:ext cx="129564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Sent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Equi-clas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Times New Roman"/>
              </a:rPr>
              <a:t>rank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1752480"/>
            <a:ext cx="1143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Keyword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590920"/>
            <a:ext cx="13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NE</a:t>
            </a:r>
            <a:r>
              <a:rPr b="0" lang="de-DE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&amp; 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EA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Relevant document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2666880"/>
            <a:ext cx="3124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Stream of sentences (docPOS, tokens, lexems, NE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5683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Sentence/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short ans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1" idx="3"/>
            <a:endCxn id="242" idx="1"/>
          </p:cNvCxnSpPr>
          <p:nvPr/>
        </p:nvCxnSpPr>
        <p:spPr>
          <a:xfrm>
            <a:off x="1980720" y="2095200"/>
            <a:ext cx="1143720" cy="108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53" name=""/>
          <p:cNvCxnSpPr>
            <a:stCxn id="242" idx="3"/>
            <a:endCxn id="243" idx="1"/>
          </p:cNvCxnSpPr>
          <p:nvPr/>
        </p:nvCxnSpPr>
        <p:spPr>
          <a:xfrm>
            <a:off x="4419720" y="2095200"/>
            <a:ext cx="1753200" cy="108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44" idx="3"/>
            <a:endCxn id="245" idx="1"/>
          </p:cNvCxnSpPr>
          <p:nvPr/>
        </p:nvCxnSpPr>
        <p:spPr>
          <a:xfrm>
            <a:off x="4419720" y="3695400"/>
            <a:ext cx="1753200" cy="1080"/>
          </a:xfrm>
          <a:prstGeom prst="straightConnector1">
            <a:avLst/>
          </a:prstGeom>
          <a:ln w="12600">
            <a:solidFill>
              <a:srgbClr val="40458c"/>
            </a:solidFill>
            <a:miter/>
            <a:headEnd len="sm" type="triangle" w="sm"/>
          </a:ln>
        </p:spPr>
      </p:cxnSp>
      <p:cxnSp>
        <p:nvCxnSpPr>
          <p:cNvPr id="255" name=""/>
          <p:cNvCxnSpPr>
            <a:stCxn id="248" idx="2"/>
            <a:endCxn id="246" idx="1"/>
          </p:cNvCxnSpPr>
          <p:nvPr/>
        </p:nvCxnSpPr>
        <p:spPr>
          <a:xfrm flipH="1" rot="16200000">
            <a:off x="1001520" y="3174120"/>
            <a:ext cx="2339280" cy="1905480"/>
          </a:xfrm>
          <a:prstGeom prst="bentConnector2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56" name=""/>
          <p:cNvCxnSpPr>
            <a:stCxn id="246" idx="2"/>
            <a:endCxn id="251" idx="1"/>
          </p:cNvCxnSpPr>
          <p:nvPr/>
        </p:nvCxnSpPr>
        <p:spPr>
          <a:xfrm flipH="1" rot="16200000">
            <a:off x="4826520" y="4582800"/>
            <a:ext cx="366120" cy="2477160"/>
          </a:xfrm>
          <a:prstGeom prst="bentConnector2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472428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Inverted </a:t>
            </a:r>
            <a:r>
              <a:rPr b="0" lang="de-DE" sz="1800" spc="-1" strike="noStrike">
                <a:solidFill>
                  <a:srgbClr val="996600"/>
                </a:solidFill>
                <a:latin typeface="Times New Roman"/>
              </a:rPr>
              <a:t>NE</a:t>
            </a: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 inde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114800"/>
            <a:ext cx="19051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imes New Roman"/>
              </a:rPr>
              <a:t>{&lt;s</a:t>
            </a:r>
            <a:r>
              <a:rPr b="0" lang="de-DE" sz="1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de-DE" sz="1400" spc="-1" strike="noStrike">
                <a:solidFill>
                  <a:srgbClr val="40458c"/>
                </a:solidFill>
                <a:latin typeface="Times New Roman"/>
              </a:rPr>
              <a:t>,s</a:t>
            </a:r>
            <a:r>
              <a:rPr b="0" lang="de-DE" sz="1400" spc="-1" strike="noStrike" baseline="-25000">
                <a:solidFill>
                  <a:srgbClr val="40458c"/>
                </a:solidFill>
                <a:latin typeface="Times New Roman"/>
              </a:rPr>
              <a:t>j</a:t>
            </a:r>
            <a:r>
              <a:rPr b="0" lang="de-DE" sz="1400" spc="-1" strike="noStrike">
                <a:solidFill>
                  <a:srgbClr val="40458c"/>
                </a:solidFill>
                <a:latin typeface="Times New Roman"/>
              </a:rPr>
              <a:t>,s</a:t>
            </a:r>
            <a:r>
              <a:rPr b="0" lang="de-DE" sz="1400" spc="-1" strike="noStrike" baseline="-25000">
                <a:solidFill>
                  <a:srgbClr val="40458c"/>
                </a:solidFill>
                <a:latin typeface="Times New Roman"/>
              </a:rPr>
              <a:t>NE-eat</a:t>
            </a:r>
            <a:r>
              <a:rPr b="0" lang="de-DE" sz="1400" spc="-1" strike="noStrike">
                <a:solidFill>
                  <a:srgbClr val="40458c"/>
                </a:solidFill>
                <a:latin typeface="Times New Roman"/>
              </a:rPr>
              <a:t>&gt;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 |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66"/>
                </a:solidFill>
                <a:latin typeface="Times New Roman"/>
              </a:rPr>
              <a:t>query-</a:t>
            </a:r>
            <a:r>
              <a:rPr b="0" lang="de-DE" sz="1200" spc="-1" strike="noStrike">
                <a:solidFill>
                  <a:srgbClr val="40458c"/>
                </a:solidFill>
                <a:latin typeface="Times New Roman"/>
              </a:rPr>
              <a:t>compatible</a:t>
            </a:r>
            <a:r>
              <a:rPr b="0" lang="de-DE" sz="18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3" idx="2"/>
            <a:endCxn id="245" idx="0"/>
          </p:cNvCxnSpPr>
          <p:nvPr/>
        </p:nvCxnSpPr>
        <p:spPr>
          <a:xfrm>
            <a:off x="6819480" y="2438280"/>
            <a:ext cx="1080" cy="91512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60" name=""/>
          <p:cNvCxnSpPr>
            <a:stCxn id="244" idx="2"/>
            <a:endCxn id="246" idx="0"/>
          </p:cNvCxnSpPr>
          <p:nvPr/>
        </p:nvCxnSpPr>
        <p:spPr>
          <a:xfrm>
            <a:off x="3771720" y="4038480"/>
            <a:ext cx="1080" cy="91512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61" name=""/>
          <p:cNvCxnSpPr>
            <a:stCxn id="257" idx="2"/>
            <a:endCxn id="246" idx="3"/>
          </p:cNvCxnSpPr>
          <p:nvPr/>
        </p:nvCxnSpPr>
        <p:spPr>
          <a:xfrm rot="5400000">
            <a:off x="4206240" y="4206960"/>
            <a:ext cx="1302480" cy="876960"/>
          </a:xfrm>
          <a:prstGeom prst="bentConnector2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62" name=""/>
          <p:cNvCxnSpPr>
            <a:stCxn id="247" idx="2"/>
            <a:endCxn id="244" idx="1"/>
          </p:cNvCxnSpPr>
          <p:nvPr/>
        </p:nvCxnSpPr>
        <p:spPr>
          <a:xfrm flipH="1" rot="16200000">
            <a:off x="2049120" y="2621520"/>
            <a:ext cx="1577160" cy="572040"/>
          </a:xfrm>
          <a:prstGeom prst="bentConnector2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  <p:cxnSp>
        <p:nvCxnSpPr>
          <p:cNvPr id="263" name=""/>
          <p:cNvCxnSpPr/>
          <p:nvPr/>
        </p:nvCxnSpPr>
        <p:spPr>
          <a:xfrm>
            <a:off x="1218960" y="3885840"/>
            <a:ext cx="1905480" cy="108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NE Rank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12956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Search for </a:t>
            </a:r>
            <a:r>
              <a:rPr b="0" i="1" lang="de-DE" sz="2000" spc="-1" strike="noStrike">
                <a:solidFill>
                  <a:srgbClr val="40458c"/>
                </a:solidFill>
                <a:latin typeface="Tahoma"/>
              </a:rPr>
              <a:t>all possible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 NEs in the N-Google-retrieved documents D</a:t>
            </a:r>
            <a:r>
              <a:rPr b="0" lang="de-DE" sz="2000" spc="-1" strike="noStrike" baseline="-25000">
                <a:solidFill>
                  <a:srgbClr val="40458c"/>
                </a:solidFill>
                <a:latin typeface="Tahoma"/>
              </a:rPr>
              <a:t>N </a:t>
            </a: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covered by the NE grammars of our shallow NLP system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ahoma"/>
              </a:rPr>
              <a:t>Note: our NE-recognizer also performs NE-reference resolution (e.g., Martin Marietta Corp. = Mariett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114800"/>
            <a:ext cx="419112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Each NE gets a weight according 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Absolute frequency of NE in D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rebuchet MS"/>
              </a:rPr>
              <a:t>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Document frequency of 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Document ranking determined by Goog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4267080"/>
            <a:ext cx="3581640" cy="2133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NEs mentioned very often in different documents (ranked high by Google) receive high r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rebuchet MS"/>
              </a:rPr>
              <a:t>Answer extraction will be effected by  redundancy and multiple documen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920" y="342900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99"/>
                </a:solidFill>
                <a:latin typeface="Times New Roman"/>
              </a:rPr>
              <a:t>NE-weighting schem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6" idx="3"/>
            <a:endCxn id="267" idx="1"/>
          </p:cNvCxnSpPr>
          <p:nvPr/>
        </p:nvCxnSpPr>
        <p:spPr>
          <a:xfrm>
            <a:off x="4876560" y="5067000"/>
            <a:ext cx="533880" cy="267120"/>
          </a:xfrm>
          <a:prstGeom prst="straightConnector1">
            <a:avLst/>
          </a:prstGeom>
          <a:ln w="12600">
            <a:solidFill>
              <a:srgbClr val="40458c"/>
            </a:solidFill>
            <a:miter/>
            <a:tailEnd len="sm" type="triangle" w="sm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Paragraph Sele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848720" cy="2827440"/>
          </a:xfrm>
          <a:prstGeom prst="rect">
            <a:avLst/>
          </a:prstGeom>
          <a:solidFill>
            <a:srgbClr val="ccffcc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b7c1eb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tep 1: </a:t>
            </a:r>
            <a:br>
              <a:rPr sz="1800"/>
            </a:b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Compute an inverted NE index list (subclassified by typ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Each found NE has a pointer into all sentences in D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in which it occu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tep 2: </a:t>
            </a:r>
            <a:br>
              <a:rPr sz="1800"/>
            </a:b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For each </a:t>
            </a:r>
            <a:r>
              <a:rPr b="0" lang="de-DE" sz="1800" spc="-1" strike="noStrike">
                <a:solidFill>
                  <a:srgbClr val="ff0066"/>
                </a:solidFill>
                <a:latin typeface="Tahoma"/>
              </a:rPr>
              <a:t>NE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 which is type-compatible with EAT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Extract a set of paragraph candidates {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ff0066"/>
                </a:solidFill>
                <a:latin typeface="Tahoma"/>
              </a:rPr>
              <a:t>NE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, 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ff0066"/>
                </a:solidFill>
                <a:latin typeface="Tahoma"/>
              </a:rPr>
              <a:t>NE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3 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, s</a:t>
            </a:r>
            <a:r>
              <a:rPr b="0" lang="de-DE" sz="1800" spc="-1" strike="noStrike" baseline="-25000">
                <a:solidFill>
                  <a:srgbClr val="ff0066"/>
                </a:solidFill>
                <a:latin typeface="Tahoma"/>
              </a:rPr>
              <a:t>NE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de-DE" sz="1800" spc="-1" strike="noStrike" baseline="-25000">
                <a:solidFill>
                  <a:srgbClr val="40458c"/>
                </a:solidFill>
                <a:latin typeface="Tahoma"/>
              </a:rPr>
              <a:t>4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Select the one with highest number of matching query-keywords (+ their distance from </a:t>
            </a:r>
            <a:r>
              <a:rPr b="0" lang="de-DE" sz="1800" spc="-1" strike="noStrike">
                <a:solidFill>
                  <a:srgbClr val="ff0066"/>
                </a:solidFill>
                <a:latin typeface="Tahoma"/>
              </a:rPr>
              <a:t>NE</a:t>
            </a:r>
            <a:r>
              <a:rPr b="0" lang="de-DE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160020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40458c"/>
                </a:solidFill>
                <a:latin typeface="Trebuchet MS"/>
              </a:rPr>
              <a:t>Note: each document is a list of sentences (a sentence is a sequence of tokens and NE‘s as identified by our NLP system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5486400"/>
            <a:ext cx="80978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imes New Roman"/>
              </a:rPr>
              <a:t>Robustnes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imes New Roman"/>
              </a:rPr>
              <a:t>For </a:t>
            </a: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relevant sentences: no need to contain NE</a:t>
            </a:r>
            <a:r>
              <a:rPr b="0" lang="de-DE" sz="1800" spc="-1" strike="noStrike" baseline="-25000">
                <a:solidFill>
                  <a:srgbClr val="003399"/>
                </a:solidFill>
                <a:latin typeface="Times New Roman"/>
              </a:rPr>
              <a:t>EAT</a:t>
            </a: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 (but a referring general NP)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Times New Roman"/>
              </a:rPr>
              <a:t>Hence, can tolerate NE-gaps caused by the NE-recognizer, and helps to guide NP-reference resolu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Sentence Class Rank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676520"/>
            <a:ext cx="7772400" cy="703800"/>
          </a:xfrm>
          <a:prstGeom prst="rect">
            <a:avLst/>
          </a:prstGeom>
          <a:solidFill>
            <a:srgbClr val="e8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Collect all sentences from all selected paragraphs with same rank into a clas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38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95280" y="2590920"/>
                <a:ext cx="57150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lToke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olNE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A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762120" y="3794040"/>
            <a:ext cx="7772400" cy="1397160"/>
          </a:xfrm>
          <a:prstGeom prst="rect">
            <a:avLst/>
          </a:prstGeom>
          <a:solidFill>
            <a:srgbClr val="e8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Ranking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number of overlapping elements (tokens/NE</a:t>
            </a:r>
            <a:r>
              <a:rPr b="0" lang="de-DE" sz="2000" spc="-1" strike="noStrike" baseline="-25000">
                <a:solidFill>
                  <a:srgbClr val="003399"/>
                </a:solidFill>
                <a:latin typeface="Tahoma"/>
              </a:rPr>
              <a:t>NOEAT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) between 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query and sentence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weighted rank of occurencies of instances of NE</a:t>
            </a:r>
            <a:r>
              <a:rPr b="0" lang="de-DE" sz="2000" spc="-1" strike="noStrike" baseline="-25000">
                <a:solidFill>
                  <a:srgbClr val="003399"/>
                </a:solidFill>
                <a:latin typeface="Tahoma"/>
              </a:rPr>
              <a:t>E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5562720"/>
            <a:ext cx="8001000" cy="74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Candidate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Tahoma"/>
              </a:rPr>
              <a:t>Select from N-best Classes, a sentence and an instances of NE</a:t>
            </a:r>
            <a:r>
              <a:rPr b="0" lang="de-DE" sz="2000" spc="-1" strike="noStrike" baseline="-25000">
                <a:solidFill>
                  <a:srgbClr val="003399"/>
                </a:solidFill>
                <a:latin typeface="Tahoma"/>
              </a:rPr>
              <a:t>E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Example Question/Answer Pai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738520"/>
            <a:ext cx="7238880" cy="36601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eclass rank='7.254032855348923'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sentence url='http://www.beatlesfan.de/alle.htm'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i="1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Marilyn Monroe war der Kuenstlername von Norma Jean Mortenson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auch bekannt als Norma Jean Bak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/sentence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exact-answer  type ='PERSON'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name rank='0.6029282321968642'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arilyn Monro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/name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name rank='0.024088195477597402'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i="1" lang="de-DE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i="1" lang="de-DE" sz="1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orma Jean Mortens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/name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&lt;/exact-answer&gt;&lt;/eclass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752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Welches Pseudonym nahm Norma Jean Baker 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Which pseudonym did Norma Jean Baker us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13:28Z</dcterms:created>
  <dc:creator>neumann</dc:creator>
  <dc:description/>
  <dc:language>en-US</dc:language>
  <cp:lastModifiedBy>neumann</cp:lastModifiedBy>
  <dcterms:modified xsi:type="dcterms:W3CDTF">2005-12-12T08:52:57Z</dcterms:modified>
  <cp:revision>1677</cp:revision>
  <dc:subject/>
  <dc:title>Overview current activities</dc:title>
</cp:coreProperties>
</file>