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7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2280" y="3830400"/>
            <a:ext cx="88394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7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431352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800" y="685800"/>
            <a:ext cx="431352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280" y="3830400"/>
            <a:ext cx="431352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1800" y="3830400"/>
            <a:ext cx="431352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7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2846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41000" y="685800"/>
            <a:ext cx="2846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0080" y="685800"/>
            <a:ext cx="2846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52280" y="3830400"/>
            <a:ext cx="2846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41000" y="3830400"/>
            <a:ext cx="2846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0080" y="3830400"/>
            <a:ext cx="2846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-7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52280" y="68580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7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7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4313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1800" y="685800"/>
            <a:ext cx="4313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7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-7668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7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431352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685800"/>
            <a:ext cx="4313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52280" y="3830400"/>
            <a:ext cx="431352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7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4313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685800"/>
            <a:ext cx="431352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1800" y="3830400"/>
            <a:ext cx="431352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7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431352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685800"/>
            <a:ext cx="431352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280" y="3830400"/>
            <a:ext cx="88394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68580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709120" y="6491160"/>
            <a:ext cx="4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5F1C-01E7-4112-8380-D2B53174CB9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kMS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eb Question Answering: Is More Always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mas, Bank, Brill, Lin, Ng (Microsoft, MIT, Berkel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: “Where i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ouvr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ca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 “Pari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“France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“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75058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is Cedex 01”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 a 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n’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ust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ant UR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7814880" y="-10152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ct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6613560"/>
            <a:ext cx="7127640" cy="246240"/>
            <a:chOff x="0" y="6613560"/>
            <a:chExt cx="7127640" cy="246240"/>
          </a:xfrm>
        </p:grpSpPr>
        <p:pic>
          <p:nvPicPr>
            <p:cNvPr id="43" name="ucdcslogo" descr=""/>
            <p:cNvPicPr/>
            <p:nvPr/>
          </p:nvPicPr>
          <p:blipFill>
            <a:blip r:embed="rId1"/>
            <a:srcRect l="84939" t="0" r="0" b="0"/>
            <a:stretch/>
          </p:blipFill>
          <p:spPr>
            <a:xfrm>
              <a:off x="0" y="6659640"/>
              <a:ext cx="157320" cy="1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55440" y="6613560"/>
              <a:ext cx="70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COMP-4016 ~ Computer Science Department ~ University College Dublin ~ www.cs.ucd.ie/staff/nick ~ </a:t>
              </a: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</a:t>
              </a: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Nicholas Kushmerick 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" name="" descr=""/>
          <p:cNvPicPr/>
          <p:nvPr/>
        </p:nvPicPr>
        <p:blipFill>
          <a:blip r:embed="rId2"/>
          <a:srcRect l="0" t="13540" r="14065" b="6251"/>
          <a:stretch/>
        </p:blipFill>
        <p:spPr>
          <a:xfrm>
            <a:off x="2933640" y="1828800"/>
            <a:ext cx="6135840" cy="4295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ep 3: Mining N-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gram, bigram, trigram, … N-gram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st of N adjacent terms in a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g, “Web Question Answering: Is More Always Bett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grams: Web, Question, Answering, Is, More, Always, Be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igrams: Web Question, Question Answering, Answering Is, Is More, More Always, Always Be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rigrams: Web Question Answering, Question Answering Is, Answering Is More, Is More Always, More Always Be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ng N-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mple: Enumerate all N-grams (N=1,2,3 say) in all retrieved snipp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 hash table and other fancy footwork to make this e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ight of an n-gram: occurrence count, each weighted by “reliability” (weight) of rewrite that fetched the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ample: “Who created the character of Scrooge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ckens - 1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istmas Carol - 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rles Dickens - 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ney - 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rl Banks - 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Christmas - 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istmas Carol -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cle - 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ep 4: Filtering N-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ach question type is associated with one or more “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ata-type filter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 = regular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ost score of  n-grams that do match rege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wer score of n-grams that don’t match rege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tails ommitted from paper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90920" y="19461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42840" y="263196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63760" y="33526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2133720"/>
            <a:ext cx="14479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2743200"/>
            <a:ext cx="1447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057400" y="2362320"/>
            <a:ext cx="1295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905120" y="358092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057400" y="304776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ep 5: Tiling the Ans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1994040"/>
            <a:ext cx="1523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ic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05120" y="1460520"/>
            <a:ext cx="28191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harles    Dicke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2546280"/>
            <a:ext cx="19047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r Char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200" y="685800"/>
            <a:ext cx="102816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1219320"/>
            <a:ext cx="381240" cy="1904760"/>
          </a:xfrm>
          <a:custGeom>
            <a:avLst/>
            <a:gdLst>
              <a:gd name="textAreaLeft" fmla="*/ 0 w 381240"/>
              <a:gd name="textAreaRight" fmla="*/ 137520 w 38124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erged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discard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ld n-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3429000"/>
            <a:ext cx="33526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r Charles  Dic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06040" y="342900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core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91320" y="251460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41148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4343400"/>
            <a:ext cx="1600200" cy="10666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-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66880" y="487692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09920" y="438480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le highest-scoring n-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4343400"/>
            <a:ext cx="1600200" cy="10666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-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514600" y="55627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98400" y="5680080"/>
            <a:ext cx="40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peat, until no more overl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gnore the TREC-politics discu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ndard performance metric: MR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ystems give “top 5 answer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ore = 1/R,  where R is rank of first right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: 1; 2: 0.5; 3: 0.33; 4: 0.25; 5: 0.2; 6+: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summary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ndard TREC contest test-bed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~1M documents; 900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chnique doesn’t do too well (though would have placed in top 9 of ~30 participants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RR = 0.262 (ie, right answered ranked about #4-#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y?  Because it relies on the enormity of the Web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ing the Web as a whole, not just TREC’s 1M documents…  MRR = 0.42 (ie, on average, right answer is ranked about #2-#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skMSR’s 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10347" t="15189" r="16379" b="6197"/>
          <a:stretch/>
        </p:blipFill>
        <p:spPr>
          <a:xfrm>
            <a:off x="1371600" y="2454120"/>
            <a:ext cx="5715000" cy="4175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rot="21368400">
            <a:off x="2586600" y="182844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EC dataset is about right 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362320" y="2209680"/>
            <a:ext cx="30456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11960" y="6238800"/>
            <a:ext cx="1637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32040" y="635040"/>
            <a:ext cx="592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QA is h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ut TREC exaggerates the difficul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e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many scenarios (eg, monitoring Bin Laden’s email) we only have a small set of document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ks best/only for “Trivial Pursuit”-style fact-based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ited/brittle repertoir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estion categ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swer data types/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ery rewriting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estion-Answ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rs want answers, not document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formation Retrieval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formation Extraction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Question Answering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lligent Personal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ectronic Librar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ctive research over the past few years, coordinated by US government “TREC” compet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ent intense interest from security services (“What is Bin Laden’s bank account number?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523880"/>
            <a:ext cx="380880" cy="177840"/>
          </a:xfrm>
          <a:custGeom>
            <a:avLst/>
            <a:gdLst/>
            <a:ahLst/>
            <a:rect l="l" t="t" r="r" b="b"/>
            <a:pathLst>
              <a:path w="240" h="112">
                <a:moveTo>
                  <a:pt x="0" y="0"/>
                </a:moveTo>
                <a:cubicBezTo>
                  <a:pt x="28" y="40"/>
                  <a:pt x="56" y="80"/>
                  <a:pt x="96" y="96"/>
                </a:cubicBezTo>
                <a:cubicBezTo>
                  <a:pt x="136" y="112"/>
                  <a:pt x="188" y="104"/>
                  <a:pt x="240" y="96"/>
                </a:cubicBezTo>
              </a:path>
            </a:pathLst>
          </a:custGeom>
          <a:noFill/>
          <a:ln w="2844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1955880"/>
            <a:ext cx="380880" cy="177840"/>
          </a:xfrm>
          <a:custGeom>
            <a:avLst/>
            <a:gdLst/>
            <a:ahLst/>
            <a:rect l="l" t="t" r="r" b="b"/>
            <a:pathLst>
              <a:path w="240" h="112">
                <a:moveTo>
                  <a:pt x="0" y="0"/>
                </a:moveTo>
                <a:cubicBezTo>
                  <a:pt x="28" y="40"/>
                  <a:pt x="56" y="80"/>
                  <a:pt x="96" y="96"/>
                </a:cubicBezTo>
                <a:cubicBezTo>
                  <a:pt x="136" y="112"/>
                  <a:pt x="188" y="104"/>
                  <a:pt x="240" y="96"/>
                </a:cubicBezTo>
              </a:path>
            </a:pathLst>
          </a:custGeom>
          <a:noFill/>
          <a:ln w="2844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2336760"/>
            <a:ext cx="380880" cy="177840"/>
          </a:xfrm>
          <a:custGeom>
            <a:avLst/>
            <a:gdLst/>
            <a:ahLst/>
            <a:rect l="l" t="t" r="r" b="b"/>
            <a:pathLst>
              <a:path w="240" h="112">
                <a:moveTo>
                  <a:pt x="0" y="0"/>
                </a:moveTo>
                <a:cubicBezTo>
                  <a:pt x="28" y="40"/>
                  <a:pt x="56" y="80"/>
                  <a:pt x="96" y="96"/>
                </a:cubicBezTo>
                <a:cubicBezTo>
                  <a:pt x="136" y="112"/>
                  <a:pt x="188" y="104"/>
                  <a:pt x="240" y="96"/>
                </a:cubicBezTo>
              </a:path>
            </a:pathLst>
          </a:custGeom>
          <a:noFill/>
          <a:ln w="2844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2870280"/>
            <a:ext cx="380880" cy="177840"/>
          </a:xfrm>
          <a:custGeom>
            <a:avLst/>
            <a:gdLst/>
            <a:ahLst/>
            <a:rect l="l" t="t" r="r" b="b"/>
            <a:pathLst>
              <a:path w="240" h="112">
                <a:moveTo>
                  <a:pt x="0" y="0"/>
                </a:moveTo>
                <a:cubicBezTo>
                  <a:pt x="28" y="40"/>
                  <a:pt x="56" y="80"/>
                  <a:pt x="96" y="96"/>
                </a:cubicBezTo>
                <a:cubicBezTo>
                  <a:pt x="136" y="112"/>
                  <a:pt x="188" y="104"/>
                  <a:pt x="240" y="96"/>
                </a:cubicBezTo>
              </a:path>
            </a:pathLst>
          </a:custGeom>
          <a:noFill/>
          <a:ln w="2844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5105520"/>
            <a:ext cx="807732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895480"/>
            <a:ext cx="8077320" cy="1447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raditional” approach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warning: Straw man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ditional deep natural-language processing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ll parse of documents and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ich knowledge of vocabulary, cause/effect, common sense, enables sophisticated semantic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ssential to find the year Lincoln died from the following docu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on-Canadian, non-Mexican president of a North American country whose initials are AL and who was killed by John Wilkes booth died ten revolutions of the earth around the sun after 185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And it is undecidable to get the answer from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T be the following Turing Machine: ….  If T halt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 all inputs, then Lincoln dies in 1865, else Lincoln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ed in 186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skMSR: Shall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ust ignore those documents, and look for ones like this instea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13801" r="2263" b="32401"/>
          <a:stretch/>
        </p:blipFill>
        <p:spPr>
          <a:xfrm>
            <a:off x="380880" y="2209680"/>
            <a:ext cx="6858000" cy="2830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2"/>
          <a:srcRect l="40747" t="30083" r="28912" b="34730"/>
          <a:stretch/>
        </p:blipFill>
        <p:spPr>
          <a:xfrm>
            <a:off x="152280" y="3998880"/>
            <a:ext cx="3200400" cy="2782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rcRect l="28908" t="13540" r="28908" b="42708"/>
          <a:stretch/>
        </p:blipFill>
        <p:spPr>
          <a:xfrm>
            <a:off x="5791320" y="1908000"/>
            <a:ext cx="3276360" cy="2548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4"/>
          <a:srcRect l="25782" t="33337" r="27343" b="47920"/>
          <a:stretch/>
        </p:blipFill>
        <p:spPr>
          <a:xfrm>
            <a:off x="3657600" y="4952880"/>
            <a:ext cx="5029200" cy="1508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skMSR: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6250" t="19791" r="5467" b="38544"/>
          <a:stretch/>
        </p:blipFill>
        <p:spPr>
          <a:xfrm>
            <a:off x="76320" y="1447920"/>
            <a:ext cx="8991360" cy="3182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02200" y="11113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54880" y="990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4000" y="22096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26280" y="4419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2200" y="4343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82880" y="2082960"/>
            <a:ext cx="304812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ep 1: Rewrite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uition: The user’s question is often syntactically quite close to sentences that contain th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uvr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seu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cate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uvr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seu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cate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create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aracte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o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Scroog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Charles Dicken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create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aracte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o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Scroog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33720" y="2209680"/>
            <a:ext cx="19810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371240" y="22096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285640" y="2209680"/>
            <a:ext cx="11430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428640" y="2209680"/>
            <a:ext cx="11430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029200" y="22096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365760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657600"/>
            <a:ext cx="1523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365760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3657600"/>
            <a:ext cx="1600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657600"/>
            <a:ext cx="1295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841400"/>
            <a:ext cx="5799240" cy="13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3289320"/>
            <a:ext cx="7238880" cy="143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ery re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assify question into seven categ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/was/are/were…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Whe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/did/will/are/were …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Wher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/are/were …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. Category-specific transformation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g “For Where questions, move ‘is’ to all possible location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he Louvre Museum locate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he Louvre Museum locate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Louvre Museum locate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ouvr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useum locate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ouvre Museum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locate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ouvre Museum locate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Paper does not give full details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. Expected answer “Datatype” (eg, Date, Person, Location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was the French Revolution? 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nd-crafted classification/rewrite/datatype rul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Could they be automatically learned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01760" y="2666880"/>
            <a:ext cx="150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nsense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t wh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res?  It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nly a few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re queri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Goog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095880" y="2819520"/>
            <a:ext cx="1524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095880" y="281952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095880" y="2819520"/>
            <a:ext cx="152424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5765760"/>
            <a:ext cx="4191120" cy="177840"/>
          </a:xfrm>
          <a:custGeom>
            <a:avLst/>
            <a:gdLst/>
            <a:ahLst/>
            <a:rect l="l" t="t" r="r" b="b"/>
            <a:pathLst>
              <a:path w="2640" h="112">
                <a:moveTo>
                  <a:pt x="0" y="0"/>
                </a:moveTo>
                <a:cubicBezTo>
                  <a:pt x="208" y="40"/>
                  <a:pt x="416" y="80"/>
                  <a:pt x="768" y="96"/>
                </a:cubicBezTo>
                <a:cubicBezTo>
                  <a:pt x="1120" y="112"/>
                  <a:pt x="1800" y="112"/>
                  <a:pt x="2112" y="96"/>
                </a:cubicBezTo>
                <a:cubicBezTo>
                  <a:pt x="2424" y="80"/>
                  <a:pt x="2532" y="40"/>
                  <a:pt x="264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ery Rewriting - wei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ne wrinkle: Some query rewrites are more reliable than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4160" y="4343400"/>
            <a:ext cx="43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“the Louvre Museum is locate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1640" y="2209680"/>
            <a:ext cx="49204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re is the Louvre Museum loc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62520" y="2514600"/>
            <a:ext cx="167616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2080" y="3147840"/>
            <a:ext cx="2844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eight  5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we get a match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it’s probably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87480" y="5410080"/>
            <a:ext cx="3681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Louvre +Museum +lo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514600" y="2590920"/>
            <a:ext cx="7632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4640" y="3352680"/>
            <a:ext cx="22989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eight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ts of non-answer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uld come back t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ep 2: Query search e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row all rewrites to a Web-wide search eng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trieve top N answers (100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speed, rely just on search engine’s “snippets”, not the full text of the actual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9T11:18:22Z</dcterms:created>
  <dc:creator>Nicholas Kushmerick</dc:creator>
  <dc:description/>
  <dc:language>en-US</dc:language>
  <cp:lastModifiedBy>neumann</cp:lastModifiedBy>
  <cp:lastPrinted>2000-09-21T12:38:02Z</cp:lastPrinted>
  <dcterms:modified xsi:type="dcterms:W3CDTF">2003-09-30T10:45:14Z</dcterms:modified>
  <cp:revision>82</cp:revision>
  <dc:subject/>
  <dc:title>Paper 2</dc:title>
</cp:coreProperties>
</file>