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7E6-A8DE-4F75-9384-74E3CAAD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337-E4F9-499C-9FB2-637BD3FF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EF4-63B1-4179-B1BA-E7470751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13E-4AB1-44BD-AEE2-50ABA78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768-28A5-41D0-912E-25885B0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9EA-FBC8-452C-BECF-A490206D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85E-5DC4-455A-92EB-7B6CA73F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CF2-808F-4AAA-99BB-75B1189A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1E2-EDCB-4740-BE02-DA3E3DA3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B39-AED5-4A78-8018-3B84090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4B7-FFED-46F1-A881-1138EC3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9B9-55AE-4B96-AAD4-A4E1B60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Bookman Old Styl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G. Neuman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DC8-0EA2-48CD-8980-F01AB15F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HalifaxWag.ppt" TargetMode="External"/><Relationship Id="rId2" Type="http://schemas.openxmlformats.org/officeDocument/2006/relationships/hyperlink" Target="file:///AskMSR.ppt" TargetMode="External"/><Relationship Id="rId3" Type="http://schemas.openxmlformats.org/officeDocument/2006/relationships/hyperlink" Target="file:///AskMSR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Bookman Old Style"/>
                <a:ea typeface="Times New Roman"/>
              </a:rPr>
              <a:t>Open-domain Question Answering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42" name=""/>
          <p:cNvSpPr/>
          <p:nvPr/>
        </p:nvSpPr>
        <p:spPr>
          <a:xfrm>
            <a:off x="1837440" y="468936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Günter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Bookman Old Style"/>
              </a:rPr>
              <a:t>Topics in this lecture</a:t>
            </a:r>
            <a:endParaRPr b="0" lang="en-US" sz="3600" spc="-1" strike="noStrike">
              <a:solidFill>
                <a:srgbClr val="666699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Bookman Old Style"/>
              </a:rPr>
              <a:t>Web based QA stratgies</a:t>
            </a:r>
            <a:endParaRPr b="0" lang="en-US" sz="3200" spc="-1" strike="noStrike">
              <a:solidFill>
                <a:srgbClr val="666699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Bookman Old Style"/>
                <a:hlinkClick r:id="rId1"/>
              </a:rPr>
              <a:t>Neumann &amp; Xu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Bookman Old Style"/>
                <a:hlinkClick r:id="rId2"/>
              </a:rPr>
              <a:t>AskMS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Bookman Old Style"/>
                <a:hlinkClick r:id="rId3"/>
              </a:rPr>
              <a:t>, Microsof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umann</cp:lastModifiedBy>
  <dcterms:modified xsi:type="dcterms:W3CDTF">2005-12-13T12:08:12Z</dcterms:modified>
  <cp:revision>544</cp:revision>
  <dc:subject/>
  <dc:title>PowerPoint Presentation</dc:title>
</cp:coreProperties>
</file>