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FAD5-B537-4BA1-99FD-F1503225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6860-88D5-478C-8872-B2075A54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E95C-C1BA-4228-828A-AFF21AA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C4A3-BF7A-4CBA-A8FA-52DDCBDA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3DBC-767B-435A-A6C7-D28AE9E6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C5E5-60F2-442F-862D-4B24272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AAF9-33C5-4F2F-9342-DC46491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5498-65F0-42A4-B52A-C09AD0D0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8EDB-0E41-418F-98C7-AEE5D738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804A-D7F3-41FD-AF22-F2F5711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3116-AE2F-4B34-9070-5720B71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8C74-A5F6-490F-81F5-68A3B34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1299-DCF7-4263-8F51-D586410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5C5-FB41-4895-8AC6-BD1A2D9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F13-A811-4C6B-9E2A-5257566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6A3-7EFF-451A-9027-723AE718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41A-C450-47AE-A4DC-345791B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9BA3-10F8-4BA6-96D6-7564ECD1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7FE3-7144-4177-B471-C04C1B70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CAD0-1D0F-4EB4-A8DC-B4BC2F0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B051-AA37-4904-8654-87A5AE2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8B06-F49B-4793-8FDD-5E1D252B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7620-3386-48C2-99B6-2A1BFB3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0F6C-A078-4A1C-A8E0-B622695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08A6-BAD4-4D47-9656-7D5306C85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EDB-5B7A-45D6-87AD-29213A9D9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 3D Interface for the Fluid Beam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übomira Spasso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GK, Saarland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ng Display 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rtual Display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 master thesis uses the idea of the stereo vision method replacing one of the cameras by a pro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sponding points problem: the reference pattern for the triangulation is projected on the surface and matched with the corresponding pattern in the camera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thod requires complex calibration techniques for both the camera and the pro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libration of the Camera Projector Pai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996920"/>
            <a:ext cx="4038480" cy="3160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996920"/>
            <a:ext cx="4038480" cy="316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5229360"/>
            <a:ext cx="39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era ↔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229360"/>
            <a:ext cx="39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or ↔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0944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oftware: GML (Graphics &amp; Media Lab), MSU uses openCV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 Fin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 Fin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going diploma thesis about avatar movement in an instrumented environment using the Fluid Be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s a path between two given points in the room avoiding obsta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inding algorithm can be integrated into the 3D interface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ath Finding Algorith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iven a room model, an appropriate path network i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fferent types of edges have different costs (weights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orizontalCost =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rticalCost =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rnerCost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bstaclePassCost = 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iven a start and an end point, a path with minimal cost is calculated (Dijkstra implement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tacles and Avatar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acle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tourable obstacles (small windows, frames, wall-mounted display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on-detourable obstacles (columns, large window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vatar movement must avoid slant path seg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unnel metaphor for non-detourable obstacles that cannot be avoid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D Interface enables an easy and intuitive interaction with virtual displ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implemented interactions include: model navigation, display creation, content specification (drag and drop for images and videos), display movement and dele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face can be enhanced in order to serve as a tool for the programmer developing complex presentation scenarios by integrating a path finding algorithm and an automated 3D model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s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D model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i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areas, summary &amp; 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sible Application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pping scenario: definition of advertisement applications, initialisation of product associated displ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ge applications: setting up scenarios for special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eum environment: definition of key points for user navigation and display content for each exhib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hance the implemented operation techniques providing more comfortable interaction (adjustable display size and position using world coordinat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tool that enables the definition of screen segments as display content (live video stream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 the 3D model acquisition and the path finding algorithm into the interface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luid Beam: steerable projector and camera unit mounted in the centre of the ceiling of the instrumented ro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nables distortion-free projection on any surface in the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rfaces in the room are virtually covered with a layer on which projected display (“virtual displays”) can be placed and mo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26240" y="1603440"/>
            <a:ext cx="1949400" cy="146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19760" y="3284640"/>
            <a:ext cx="1955880" cy="14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300720" y="4932360"/>
            <a:ext cx="2389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tiv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ilitate the creation of virtual displ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able definition of elaborate present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virtual display mo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nd change display cont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 for the professional user (developer) setting up a new presentation scenario rather than for the end u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lis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D representation of the instrumented room in a Java wind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faces suitable for projection represented by grey colour, obstacles displayed in yel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action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gging the right mouse button rotates the 3D model around the view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gging the left mouse button creates a new virtual display in the model (possible only on grey surfac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creation the virtual displays appear at the corresponding positions in the ro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Navi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85920" y="1503360"/>
            <a:ext cx="4772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rtual Display Cre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action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ages and videos can be transferred to the created virtual displays using drag and dro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rtual displays can b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d by dragging the corresponding representations in the 3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eted by left mouse double-click on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19:06Z</dcterms:created>
  <dc:creator>mira</dc:creator>
  <dc:description/>
  <dc:language>en-US</dc:language>
  <cp:lastModifiedBy>mira</cp:lastModifiedBy>
  <dcterms:modified xsi:type="dcterms:W3CDTF">2006-01-31T13:29:52Z</dcterms:modified>
  <cp:revision>13</cp:revision>
  <dc:subject/>
  <dc:title>3D Interface for the Fluid Beam</dc:title>
</cp:coreProperties>
</file>