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2178-047C-43DE-897B-033E4DA1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62F3-172A-4847-9B79-76519C47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C0AA-4487-4FE5-A4CC-AE3EF579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B174-5BBE-43B3-9245-E1116A78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B561-1580-4A3A-894E-DCEBCE39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3A67-509C-4396-ADA3-AF8D2C75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6B2E-2C3D-420F-B00E-74405227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925D-D625-4367-85A2-F42C5858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DB0B-0040-4AB1-B6F0-43407E81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6287-70DD-4D6D-8959-611542B3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A106-7BB8-47E4-9CF9-10E7F5B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7B50-5753-481C-82EA-50CD50CC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3EAB-1DF9-4C72-8866-D114BB23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80E0-3573-43B1-B1CE-6C787AA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05AC-8BA7-47AE-A83B-1D8D5EB5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B685-A87F-4CE2-9DDE-D0BD1F05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F382-F072-4D7A-A27C-FF945290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19A6-475F-49BE-AC3C-D43CA3C8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EC76-35CC-4753-BCB8-4E2D19DF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F4CA-4B82-429C-BC1D-D4E71C8B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B83A-2C98-4AA9-9140-9D1AC103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155E-3440-40D9-9DC0-24C55A10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150D-63A8-4C5B-A574-25765C4A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3D88-01EC-4D14-AFE7-B480C2E7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1D7D-3FFD-45F4-A7D1-897F2EFE885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9962-2110-48B6-ABB2-6CB3A7029B5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8007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How much is the new U2-C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20 Eu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And the one from 2Pac?  /  &gt; 2Pa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2Pac didn’t release any CD las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ria</cp:lastModifiedBy>
  <dcterms:modified xsi:type="dcterms:W3CDTF">2005-02-02T09:27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9952577</vt:r8>
  </property>
  <property fmtid="{D5CDD505-2E9C-101B-9397-08002B2CF9AE}" pid="3" name="_AuthorEmail">
    <vt:lpwstr>nuriabc@gmx.net</vt:lpwstr>
  </property>
  <property fmtid="{D5CDD505-2E9C-101B-9397-08002B2CF9AE}" pid="4" name="_AuthorEmailDisplayName">
    <vt:lpwstr>Nuria Bertomeu</vt:lpwstr>
  </property>
  <property fmtid="{D5CDD505-2E9C-101B-9397-08002B2CF9AE}" pid="5" name="_EmailSubject">
    <vt:lpwstr>präsentation</vt:lpwstr>
  </property>
</Properties>
</file>