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2C0EB-9809-454A-8D9E-1C4161A2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F7EC-CBFA-4E34-9AB2-F38D3717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930F-78C4-48A8-9724-BB3EAFE8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6B4D8-6619-4FC3-979B-B51C3A28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D09B-CC7A-4D88-B64B-DF91C318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1B51-83A7-4B29-9A2D-20FD5F8B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EF81-EB59-4D9E-95A9-6AD87434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8D32-BD6B-4807-B93A-1E5BF9FC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45ED-EF83-48CE-B4A5-80D03CED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F05F-62D3-4EF7-9A7C-8DC7C9D3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954A-760F-49B7-B501-1F75FCB7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AC1C3-4D52-433A-9299-A3A25BF4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B65A-175F-4D42-9369-FA960D2E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4A31-355B-4A56-B735-432B8D47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39C7-0CD2-4ABB-B6A1-E9FADE37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C2BB-B3BB-41A1-908D-61CE4E59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397E-3685-436D-AFA7-A180C667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AB0DB-3627-4772-90CE-F37A3C36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8149-6B0E-4548-A3A0-F404191E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A62A-A7AA-4E5D-85E5-A8CF6704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E497-F8BB-462C-B024-77899529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6436A-24B0-47C2-BB33-5D2B46CD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15F17-365D-403A-962B-0C2B2303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ABB5-E655-4BDD-98D5-9C78389F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9174B-F933-43EB-A784-39A0039F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5C722-1EC7-424E-A5BA-558436BD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947A5-281F-4866-A90B-3F056404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12E37-E876-4692-AD49-A577AADF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B5320-8250-4E4A-86BE-3B71C564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B57F-E219-42EA-B743-82E3F286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D1F1A-83D4-42E3-9166-0BC1D9F1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F9468-B194-4665-9901-0197B046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993A5-0AC1-4217-A838-8D0DDBD0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45DA3-5D9A-43EA-9599-88DB36CC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E1056-59FA-4B18-8ADA-ABCFE3CE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8896A-7380-443B-8806-FBA8A023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0E5E-4B51-4761-9EC1-BB2836CC2CF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20AD-DC0D-4E0C-95A3-A89A00FE11C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FE91-1834-422D-AB24-89AAA6AD58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elliptical_quest.ppt" TargetMode="External"/><Relationship Id="rId2" Type="http://schemas.openxmlformats.org/officeDocument/2006/relationships/hyperlink" Target="file:///non_ling_antecedents.ppt" TargetMode="External"/><Relationship Id="rId3" Type="http://schemas.openxmlformats.org/officeDocument/2006/relationships/hyperlink" Target="file:///partial.ppt" TargetMode="External"/><Relationship Id="rId4" Type="http://schemas.openxmlformats.org/officeDocument/2006/relationships/hyperlink" Target="file:///semantic_ellipsis.ppt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87640" y="1916280"/>
            <a:ext cx="600408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Towards a Model of Reference and Ellipsis Resolution for Question Answering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úria Bertomeu Castel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pervisor: Hans Uszkor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 and 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tecedent is an open question or task whose resolution requires the resolution of dependent questions or 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know what the movie is ab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Which on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The one he wants to m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No, no id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s about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peaker has his own plan about actions with pointers to the utterances which accomplish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or tasks which are resolved get a hack, which means they are closed ma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questions are popped out after their resolution. The unresolved dominant question becomes available and it can still be answered ellip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95280" y="836640"/>
          <a:ext cx="4316400" cy="5138640"/>
        </p:xfrm>
        <a:graphic>
          <a:graphicData uri="http://schemas.openxmlformats.org/drawingml/2006/table">
            <a:tbl>
              <a:tblPr/>
              <a:tblGrid>
                <a:gridCol w="814320"/>
                <a:gridCol w="744480"/>
                <a:gridCol w="609840"/>
                <a:gridCol w="666720"/>
                <a:gridCol w="668160"/>
                <a:gridCol w="812880"/>
              </a:tblGrid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 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…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2411280" y="189000"/>
            <a:ext cx="486000" cy="549360"/>
          </a:xfrm>
          <a:prstGeom prst="downArrow">
            <a:avLst>
              <a:gd name="adj1" fmla="val 50000"/>
              <a:gd name="adj2" fmla="val 28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6021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003640" y="1197000"/>
          <a:ext cx="1783080" cy="3887640"/>
        </p:xfrm>
        <a:graphic>
          <a:graphicData uri="http://schemas.openxmlformats.org/drawingml/2006/table">
            <a:tbl>
              <a:tblPr/>
              <a:tblGrid>
                <a:gridCol w="1783080"/>
              </a:tblGrid>
              <a:tr h="38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ction plan </a:t>
                      </a:r>
                      <a:r>
                        <a:rPr b="0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30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k Q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28 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k Q28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swer Q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7199280" y="1197000"/>
          <a:ext cx="1782720" cy="3887280"/>
        </p:xfrm>
        <a:graphic>
          <a:graphicData uri="http://schemas.openxmlformats.org/drawingml/2006/table">
            <a:tbl>
              <a:tblPr/>
              <a:tblGrid>
                <a:gridCol w="1782720"/>
              </a:tblGrid>
              <a:tr h="38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ction plan </a:t>
                      </a:r>
                      <a:r>
                        <a:rPr b="0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27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swer Q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swer Q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k Q27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flipH="1">
            <a:off x="4716000" y="4365720"/>
            <a:ext cx="2808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16000" y="40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788000" y="3284280"/>
            <a:ext cx="25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788000" y="2204640"/>
            <a:ext cx="2520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787640" y="1628280"/>
            <a:ext cx="93636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24360" y="1125360"/>
            <a:ext cx="1368720" cy="3959280"/>
          </a:xfrm>
          <a:custGeom>
            <a:avLst/>
            <a:gdLst/>
            <a:ahLst/>
            <a:rect l="l" t="t" r="r" b="b"/>
            <a:pathLst>
              <a:path w="861" h="2509">
                <a:moveTo>
                  <a:pt x="0" y="392"/>
                </a:moveTo>
                <a:cubicBezTo>
                  <a:pt x="68" y="196"/>
                  <a:pt x="136" y="0"/>
                  <a:pt x="272" y="302"/>
                </a:cubicBezTo>
                <a:cubicBezTo>
                  <a:pt x="408" y="604"/>
                  <a:pt x="771" y="1905"/>
                  <a:pt x="816" y="2207"/>
                </a:cubicBezTo>
                <a:cubicBezTo>
                  <a:pt x="861" y="2509"/>
                  <a:pt x="589" y="2131"/>
                  <a:pt x="544" y="2116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QUD mode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KOS, Ginzburg, 1996, 1999; Cooper et al., 1999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’s a stack of Questions under Discu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X-QUD is available as antece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resupposes too much cooperativity. Answers and sub-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ck architecture doesn’t rule out examples lik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was the mov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idn’t se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, I haven’t been for a long time to the movies, I’m very busy at the mo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see. ??Good. / It was g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antece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vious answer, the previous question and maybe even previous turns can behave as antece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 seminar on psychology next semes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sev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one on Tuesdays, 9-11 a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eminar roo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on Thursday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antece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guistic cues like the conjunction “and” can help us to identify antece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sometimes false antecedents which syntactically fit with the fragment, but not seman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Has Anastasia released any CD last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Yes, “Left outside alon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y priz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ing parallel elements according to sortal restri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antece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ay be some degree of uncertainty with respect to which antecedent a fragment should be res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ncts tend to be inherited if they are not competing. However, it is not so straightforward to decide whether they indeed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s there any horror mov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Yes, there are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nd with Bruce Willi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cases it is world knowledge which tells us whether an adjunct should be inher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hat is planned for the opening ceremony of the Olympic Games in Pe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nd for the Football World Championshi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I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z &amp; Sidner (1986) propose a stack to keep track of the entities and properties introduced in the previous discourse which are in the focus of att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at the top of the stack are more salient and can be referred to by pronou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deeper in the stack are less salient and can be referred to by definite descri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tions (hierarchically organized) regulate the focus st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a sub-task is introduced the preceding sub-task at the same level is popped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a task higher in the hierarchy is introduced the previous sub-task is popped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topic is changed the stack is popped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data-structure regulated by the action plans of the DPs could behave like the focus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only elements mentioned in the previous discourse can be in focus of attention, but also elements from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after hearing a sudden noise] – What’s t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Ps may direct their attention to different things, so the focus of attention is parametrizable by each D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Yeah, I agree that Mary is in tro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 Mary? I was talking about Ann. What are you thinking ab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pted information from the discourse-record gets integrated in Shared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2276640"/>
            <a:ext cx="6912000" cy="4122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71640" y="738360"/>
          <a:ext cx="4956120" cy="4657680"/>
        </p:xfrm>
        <a:graphic>
          <a:graphicData uri="http://schemas.openxmlformats.org/drawingml/2006/table">
            <a:tbl>
              <a:tblPr/>
              <a:tblGrid>
                <a:gridCol w="1015920"/>
                <a:gridCol w="890640"/>
                <a:gridCol w="1017360"/>
                <a:gridCol w="101628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 a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31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b60d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…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6156360" y="1386000"/>
            <a:ext cx="431640" cy="1368360"/>
          </a:xfrm>
          <a:custGeom>
            <a:avLst/>
            <a:gdLst>
              <a:gd name="textAreaLeft" fmla="*/ 0 w 431640"/>
              <a:gd name="textAreaRight" fmla="*/ 155880 w 431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26"/>
                </a:lnTo>
                <a:cubicBezTo>
                  <a:pt x="10800" y="10126"/>
                  <a:pt x="16200" y="11026"/>
                  <a:pt x="21600" y="11026"/>
                </a:cubicBezTo>
                <a:cubicBezTo>
                  <a:pt x="16200" y="11026"/>
                  <a:pt x="10800" y="11926"/>
                  <a:pt x="10800" y="1282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59640" y="1386000"/>
            <a:ext cx="1225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lipsis, deixis and anaphors with syntactic g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2000" y="1314360"/>
            <a:ext cx="936360" cy="3095640"/>
          </a:xfrm>
          <a:custGeom>
            <a:avLst/>
            <a:gdLst>
              <a:gd name="textAreaLeft" fmla="*/ 0 w 936360"/>
              <a:gd name="textAreaRight" fmla="*/ 338040 w 93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67480" y="3062160"/>
            <a:ext cx="9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ph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1241280"/>
            <a:ext cx="2663640" cy="5616720"/>
          </a:xfrm>
          <a:custGeom>
            <a:avLst/>
            <a:gdLst>
              <a:gd name="textAreaLeft" fmla="*/ 0 w 2663640"/>
              <a:gd name="textAreaRight" fmla="*/ 961920 w 2663640"/>
              <a:gd name="textAreaTop" fmla="*/ 146160 h 5616720"/>
              <a:gd name="textAreaBottom" fmla="*/ 5470560 h 561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10"/>
                </a:lnTo>
                <a:cubicBezTo>
                  <a:pt x="10800" y="10010"/>
                  <a:pt x="16200" y="10910"/>
                  <a:pt x="21600" y="10910"/>
                </a:cubicBezTo>
                <a:cubicBezTo>
                  <a:pt x="16200" y="10910"/>
                  <a:pt x="10800" y="11810"/>
                  <a:pt x="10800" y="1271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03120" y="455292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te N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21640" y="582444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 via-ident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antece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to choose the right antece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 via-in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anch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gu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ontains the propositions accepted by the discourse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contains the inferences drawn from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knowledge of the worl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bout entities and the relations holding among th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bout situa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led by means of ontologi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2560" y="1268280"/>
            <a:ext cx="7777080" cy="403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2060640"/>
            <a:ext cx="7200720" cy="2952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1413000"/>
            <a:ext cx="2448000" cy="57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6560" y="371628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4560" y="3213000"/>
            <a:ext cx="57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4560" y="414972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i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581360"/>
            <a:ext cx="719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4221000"/>
            <a:ext cx="649440" cy="21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56000" y="321300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781360"/>
            <a:ext cx="5745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>
            <a:stCxn id="208" idx="2"/>
            <a:endCxn id="211" idx="0"/>
          </p:cNvCxnSpPr>
          <p:nvPr/>
        </p:nvCxnSpPr>
        <p:spPr>
          <a:xfrm flipH="1">
            <a:off x="2123280" y="4005360"/>
            <a:ext cx="3564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208" idx="1"/>
            <a:endCxn id="210" idx="3"/>
          </p:cNvCxnSpPr>
          <p:nvPr/>
        </p:nvCxnSpPr>
        <p:spPr>
          <a:xfrm flipH="1">
            <a:off x="1617480" y="3860280"/>
            <a:ext cx="289440" cy="39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08" idx="1"/>
            <a:endCxn id="209" idx="3"/>
          </p:cNvCxnSpPr>
          <p:nvPr/>
        </p:nvCxnSpPr>
        <p:spPr>
          <a:xfrm flipH="1" flipV="1">
            <a:off x="1690200" y="3320280"/>
            <a:ext cx="21672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08" idx="0"/>
            <a:endCxn id="214" idx="2"/>
          </p:cNvCxnSpPr>
          <p:nvPr/>
        </p:nvCxnSpPr>
        <p:spPr>
          <a:xfrm flipH="1" flipV="1">
            <a:off x="2121840" y="2996640"/>
            <a:ext cx="37080" cy="71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2" idx="1"/>
            <a:endCxn id="208" idx="3"/>
          </p:cNvCxnSpPr>
          <p:nvPr/>
        </p:nvCxnSpPr>
        <p:spPr>
          <a:xfrm flipH="1" flipV="1">
            <a:off x="2409480" y="3860280"/>
            <a:ext cx="218160" cy="470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08" idx="3"/>
            <a:endCxn id="213" idx="1"/>
          </p:cNvCxnSpPr>
          <p:nvPr/>
        </p:nvCxnSpPr>
        <p:spPr>
          <a:xfrm flipV="1">
            <a:off x="2409840" y="3320280"/>
            <a:ext cx="14688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3995640" y="3068640"/>
            <a:ext cx="647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30560" y="3789360"/>
            <a:ext cx="57636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67280" y="4508640"/>
            <a:ext cx="57600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0920" y="3789360"/>
            <a:ext cx="57600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21" idx="2"/>
            <a:endCxn id="222" idx="3"/>
          </p:cNvCxnSpPr>
          <p:nvPr/>
        </p:nvCxnSpPr>
        <p:spPr>
          <a:xfrm flipH="1">
            <a:off x="3706560" y="3355920"/>
            <a:ext cx="613440" cy="54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21" idx="2"/>
            <a:endCxn id="223" idx="0"/>
          </p:cNvCxnSpPr>
          <p:nvPr/>
        </p:nvCxnSpPr>
        <p:spPr>
          <a:xfrm>
            <a:off x="4319280" y="3355920"/>
            <a:ext cx="3708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" name=""/>
          <p:cNvCxnSpPr>
            <a:stCxn id="221" idx="2"/>
            <a:endCxn id="224" idx="1"/>
          </p:cNvCxnSpPr>
          <p:nvPr/>
        </p:nvCxnSpPr>
        <p:spPr>
          <a:xfrm>
            <a:off x="4319640" y="3355920"/>
            <a:ext cx="612000" cy="54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222" idx="2"/>
            <a:endCxn id="223" idx="1"/>
          </p:cNvCxnSpPr>
          <p:nvPr/>
        </p:nvCxnSpPr>
        <p:spPr>
          <a:xfrm>
            <a:off x="3419280" y="4005000"/>
            <a:ext cx="648360" cy="61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23" idx="3"/>
            <a:endCxn id="224" idx="2"/>
          </p:cNvCxnSpPr>
          <p:nvPr/>
        </p:nvCxnSpPr>
        <p:spPr>
          <a:xfrm flipV="1">
            <a:off x="4642920" y="4004640"/>
            <a:ext cx="577080" cy="61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6588000" y="2997360"/>
            <a:ext cx="576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6000" y="3573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1280" y="3573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738920" y="3573360"/>
            <a:ext cx="28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30" idx="1"/>
            <a:endCxn id="231" idx="0"/>
          </p:cNvCxnSpPr>
          <p:nvPr/>
        </p:nvCxnSpPr>
        <p:spPr>
          <a:xfrm flipH="1">
            <a:off x="6084360" y="3104640"/>
            <a:ext cx="50400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30" idx="2"/>
            <a:endCxn id="232" idx="0"/>
          </p:cNvCxnSpPr>
          <p:nvPr/>
        </p:nvCxnSpPr>
        <p:spPr>
          <a:xfrm>
            <a:off x="6877080" y="3212640"/>
            <a:ext cx="504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30" idx="3"/>
            <a:endCxn id="233" idx="0"/>
          </p:cNvCxnSpPr>
          <p:nvPr/>
        </p:nvCxnSpPr>
        <p:spPr>
          <a:xfrm>
            <a:off x="7164360" y="3104640"/>
            <a:ext cx="72000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580000" y="4365720"/>
            <a:ext cx="719280" cy="21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.R.Tolk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43640" y="4292640"/>
            <a:ext cx="100800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rd of the 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4221000"/>
            <a:ext cx="576000" cy="1447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ce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4221000"/>
            <a:ext cx="576000" cy="1447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ce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38920" y="3789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75640" y="3213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99280" y="44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95640" y="2492280"/>
            <a:ext cx="647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1640" y="2060640"/>
            <a:ext cx="63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UAL, SITUATIONAL AND WORLD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via-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scourse-record provides the entities available as anchors ordered in terms of sali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 of the world provides the relations holding among the ent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er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ing to which entity in the focus of attention and by which relation the entity provided in the fragment or by the NP is related 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ing entities in the focus of attention taken as arguments by the property stated in the frag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sum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via-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id Anastasia release any CD last ye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 Yes, „Left outside alone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Any Gramm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: “Left outside alone “ (+ salient) and “Anastasia” (-sali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upon the ontology only artists are awarded with Grammies, so “Any Grammy” must be resolved like “Has Anastasia been awarded with any Grammy?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71640" y="2997360"/>
            <a:ext cx="7416720" cy="2808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5280" y="765000"/>
            <a:ext cx="2232000" cy="3311640"/>
          </a:xfrm>
          <a:prstGeom prst="can">
            <a:avLst>
              <a:gd name="adj" fmla="val 13134"/>
            </a:avLst>
          </a:prstGeom>
          <a:solidFill>
            <a:srgbClr val="99cc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: Grammy(z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1: „Left outside alone“(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: Anastasia(x) CD(y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lease(x,y) last year(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35280" y="3429000"/>
            <a:ext cx="2232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5280" y="2997360"/>
            <a:ext cx="2232000" cy="0"/>
          </a:xfrm>
          <a:prstGeom prst="line">
            <a:avLst/>
          </a:prstGeom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92720" y="3284640"/>
            <a:ext cx="2808360" cy="21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35640" y="3502080"/>
            <a:ext cx="647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s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236000" y="3429000"/>
            <a:ext cx="72072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zes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sici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083280" y="3646080"/>
            <a:ext cx="115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9" name=""/>
          <p:cNvSpPr/>
          <p:nvPr/>
        </p:nvSpPr>
        <p:spPr>
          <a:xfrm>
            <a:off x="6227640" y="3716280"/>
            <a:ext cx="93672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award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35640" y="4654440"/>
            <a:ext cx="64764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st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236000" y="4653000"/>
            <a:ext cx="7207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mm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stCxn id="256" idx="2"/>
            <a:endCxn id="260" idx="0"/>
          </p:cNvCxnSpPr>
          <p:nvPr/>
        </p:nvCxnSpPr>
        <p:spPr>
          <a:xfrm>
            <a:off x="5758920" y="3789000"/>
            <a:ext cx="10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" name=""/>
          <p:cNvCxnSpPr>
            <a:stCxn id="257" idx="2"/>
            <a:endCxn id="261" idx="0"/>
          </p:cNvCxnSpPr>
          <p:nvPr/>
        </p:nvCxnSpPr>
        <p:spPr>
          <a:xfrm>
            <a:off x="7596000" y="3862440"/>
            <a:ext cx="1080" cy="791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1187280" y="4581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80000" y="549360"/>
            <a:ext cx="201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2: Any Gramm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140360" y="1054080"/>
            <a:ext cx="1441440" cy="237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95640" y="393372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0000" y="1054080"/>
            <a:ext cx="1224000" cy="215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via-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idging definite descriptions can be resolved in a similar fash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ncoding of world and situational knowledge (scripts) in the ontology allows to resolve examples like this (Sundial Corpu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: have you got a flight coming in from los angeles eleven fif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: arh heathrow or gatwick, s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: heathr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ling with 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gment can be ambiguous: several candidates in the discourse-record, several candidate relations in the ontology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ing possible candidates: saliency, proximity of nodes in the ontology, plausibility of the relations,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factors: the user model, the communicative context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ing data with a Wizard-of-Oz experiment. Browsing information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r in the discourse record can antecedents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long does memory for syntactic structure l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ntually, ambiguity resolution experiment. Presenting subjects with fragments with different degrees of ambigu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much weight has each of the different factors involved in disambiguation (knowledge, saliency, semantics, interlocutionary knowledge, communicative context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urse-related phenom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iptical frag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via-identit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 substitution and extens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via-inferenc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e N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artial co-referenc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bridg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ilability of antece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far in the discourse record can antecedent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utterances in between affect the availability of antece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tion of sentences in mem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honological form of sentences stays for a short time in memory and then rapidly decays (Anderson, 1974; Glanzer, 1984; Kintsch and van Dijk, 1978, 1983, a.o.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idence for syntactic organization in the immediate memory of sentences (Walker, Gough, and Wall, 1968), which decays after the phonological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opositional representation of sentences lasts longer in memo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 is integrated in a wider representation of the discourse meaning plus the inferences drawn from it or it is partially forgott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and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ments report that in reading tasks subjects are able to recall at most the last two sentences (Jarvella, 197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recognition tasks subjects are sometimes able to remember the syntactic structure of a sentence two minutes later (Anderson, 197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ention seems to play an important role on deciding what is kept in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and antece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pothesis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ose utterances whose syntactic structure is still in memory are available as antece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pothesis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mory for syntactic structure: two previous tu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urse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-structure with information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gree of activation in memory of each representation level of the sente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eech act performed by every sente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eaker who contributed th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hat you just said is ver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oing back to your quest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1692360" y="1197000"/>
          <a:ext cx="6326280" cy="4657680"/>
        </p:xfrm>
        <a:graphic>
          <a:graphicData uri="http://schemas.openxmlformats.org/drawingml/2006/table">
            <a:tbl>
              <a:tblPr/>
              <a:tblGrid>
                <a:gridCol w="1014480"/>
                <a:gridCol w="890280"/>
                <a:gridCol w="1017720"/>
                <a:gridCol w="1015920"/>
                <a:gridCol w="101628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 a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31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…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427640" y="333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27640" y="6021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260280"/>
            <a:ext cx="210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Discourse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7:23:03Z</dcterms:created>
  <dc:creator>nuria</dc:creator>
  <dc:description/>
  <dc:language>en-US</dc:language>
  <cp:lastModifiedBy>nuria</cp:lastModifiedBy>
  <dcterms:modified xsi:type="dcterms:W3CDTF">2005-02-02T22:07:10Z</dcterms:modified>
  <cp:revision>5</cp:revision>
  <dc:subject/>
  <dc:title>Towards a Model of Reference and Ellipsis Resolution for Question Answering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89314687</vt:r8>
  </property>
  <property fmtid="{D5CDD505-2E9C-101B-9397-08002B2CF9AE}" pid="3" name="_AuthorEmail">
    <vt:lpwstr>nuriabc@gmx.net</vt:lpwstr>
  </property>
  <property fmtid="{D5CDD505-2E9C-101B-9397-08002B2CF9AE}" pid="4" name="_AuthorEmailDisplayName">
    <vt:lpwstr>Nuria Bertomeu</vt:lpwstr>
  </property>
  <property fmtid="{D5CDD505-2E9C-101B-9397-08002B2CF9AE}" pid="5" name="_EmailSubject">
    <vt:lpwstr>präsentation</vt:lpwstr>
  </property>
</Properties>
</file>