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E5AE-CFCD-416E-A54A-66548A49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2818-A4F0-4463-814F-34E7C1B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1F7D-1163-49F0-A8E1-E9222D7D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316B-4EEF-4D84-AE67-38CB00F3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182-B6CE-4DD1-9231-B125BA62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1A54-23EB-4C8C-B5B4-25CDC2A9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6C91-1FC4-4EAE-BC0E-489B7C18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23B-F78A-4DE6-A610-92E92B97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6407-9D33-4171-8A77-5ACD8AA7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B816-2122-451E-A1ED-DF52FCC8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E907-00B9-45F6-9741-0454C88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1594-11E1-431B-A631-4BAEBB23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81A-A622-4EED-A955-2E557B0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AF89-3C7E-4B09-90B0-39047F3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B9A5-4EE5-4D6E-8477-873FEDB7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253C-F5FB-40FE-BCB4-2BD43B8D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5557-B24B-469B-86C5-66D18711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B454-39C2-4017-8972-D468D80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2CA3-E2C7-4B05-BD02-27DEE26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45D6-789B-4630-B448-B40FAF37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4C2E-1446-450E-A9D8-BE9057FE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19FD-0624-4D85-8726-617A1052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69A4-5BB1-40D8-A619-FC6BD27F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4516-CB10-452F-AFCC-D606EBF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342D-112D-49BC-A49F-1B52470F2BB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2FE4-94C8-4984-914F-6C4C4431A02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764640"/>
            <a:ext cx="800748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Has Anastacia released any (new) CDs in the las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Yes, “Left outside alo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How many in to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Any priz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09:43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2313112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