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141D-CE96-4031-9A9C-58D47DCCB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68DD-E81C-49C1-B955-2D235ED2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BCA3-00EB-418E-BB7E-9E180960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330F-50B7-4DD0-A2A4-D2DF17C24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C10F-D17D-4E03-B640-9B903C752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9693-918E-41B6-96AD-CA1DADB6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A1BB-0F14-4C0C-BD7E-64282170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D167-931F-412B-8EA0-32B967AC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C03A-B9E4-403B-8EF1-8FEB5122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E9FE-0245-4EC6-B9EA-FC822E4A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EF3F-D435-4F32-B904-4BE9B6BA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94C7-D16B-4787-84F9-5C45D0AB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D6DB-32C6-4040-B222-FC72EA12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0D98-5488-4270-8F43-AD33B4BB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D1FE-0CD0-4AE3-9FEF-02DA14B9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255F-FA7C-44CF-A9DC-9687082E2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DCD6-93C9-4B89-9EFB-912888361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802E-B378-40B6-9FBE-A77F6FD5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E818-A454-4653-990D-06ED5B7B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9FF6-4D96-40F7-A15A-7BDD95F1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8422-2ECF-4838-8682-5F122068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04E9-19DD-4155-836F-48682D96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BA04-BE82-4CA4-83D1-2A4AB9F7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CCA3-DE25-42B7-82CB-B940D8C1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B9E5-C9A0-44F1-BFA8-9E8A59404946}" type="datetime3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F002-F1A1-441C-B260-A3706C0E15D2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0CA4-DD88-4249-98ED-5B36B9DD2CDC}" type="datetime3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24D5-7BFB-436B-8D33-5FEB8B8B7281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560" y="1925280"/>
            <a:ext cx="78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Comic Sans MS"/>
              </a:rPr>
              <a:t>Evoking and Assessing Cooperation in Dialogue (Systems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08366"/>
                </a:solidFill>
                <a:latin typeface="Times New Roman"/>
              </a:rPr>
              <a:t>Talk in the EGK-colloquium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08366"/>
                </a:solidFill>
                <a:latin typeface="Times New Roman"/>
              </a:rPr>
              <a:t>Dec 3, 2001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08366"/>
                </a:solidFill>
                <a:latin typeface="Times New Roman"/>
              </a:rPr>
              <a:t>Bettina Braun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Existing dialogue systems (I)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Technique: finite-state-automata, transitions and speech output (mainly canned speech) determined by key-word or key-phrase spotter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obligatory mapping to items in lexic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Difference in how information slots are filled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Barge-in not always allowed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Speech output not prosodically adapted wrt. 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given/new informa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certainty in checks/query-YN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1574-429F-41B7-A434-1A7803C2EDE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B49D82-1486-458B-B5F8-328B2F5DC5B4}" type="datetime3">
              <a:rPr lang="en-US"/>
              <a:t>July 31, 20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Existing dialogue systems (II)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Often (?) successful interaction, because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users are very adaptive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only limited domain applications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BUT: user satisfaction also important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certainty of checks (which check </a:t>
            </a:r>
            <a:r>
              <a:rPr b="0" lang="en-GB" sz="2600" spc="-1" strike="noStrike" u="sng">
                <a:solidFill>
                  <a:srgbClr val="402000"/>
                </a:solidFill>
                <a:uFillTx/>
                <a:latin typeface="Times New Roman"/>
              </a:rPr>
              <a:t>wrong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info) 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326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information packaging mostly inappropriate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buClr>
                <a:srgbClr val="ce9964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user frustration ...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9A56-33D1-46F7-B216-F459D1943F2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CF0ABA-598B-43CD-8C60-65C7C3B9834B}" type="datetime3">
              <a:rPr lang="en-US"/>
              <a:t>July 31, 20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How to deal with frustrated users?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167652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56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Automatic detection of anger to pass over to human operator 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ce9964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very difficult task (</a:t>
            </a: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cf. Batliner et al. 2000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Different strategies of clarification initiations (e.g. excuses by system,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cf. Fischer 2000</a:t>
            </a: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Approach here: Find out which “system behaviour” is judged positively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05600" indent="-271440">
              <a:spcBef>
                <a:spcPts val="649"/>
              </a:spcBef>
              <a:buClr>
                <a:srgbClr val="ce9964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appropriate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705600" indent="-271440">
              <a:spcBef>
                <a:spcPts val="649"/>
              </a:spcBef>
              <a:buClr>
                <a:srgbClr val="ce9964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cooperative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5DD3-F6BE-4F82-A9C2-F717D856C32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B92685-195D-4DDF-8DD6-A31F9E4C2CF5}" type="datetime3">
              <a:rPr lang="en-US"/>
              <a:t>July 31, 20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Overall experimental design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Investigate </a:t>
            </a:r>
            <a:r>
              <a:rPr b="0" lang="en-GB" sz="3000" spc="-1" strike="noStrike" u="sng">
                <a:solidFill>
                  <a:srgbClr val="402000"/>
                </a:solidFill>
                <a:uFillTx/>
                <a:latin typeface="Times New Roman"/>
              </a:rPr>
              <a:t>user behaviour</a:t>
            </a: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 in 4 conditions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ce9964"/>
              </a:buClr>
              <a:buFont typeface="Monotype Sort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WoZ with synthesised speech outpu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ce9964"/>
              </a:buClr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WoZ with “canned” speech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ce9964"/>
              </a:buClr>
              <a:buFont typeface="Monotype Sort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402000"/>
                </a:solidFill>
                <a:latin typeface="Times New Roman"/>
              </a:rPr>
              <a:t>human operator with restricted set of 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402000"/>
                </a:solidFill>
                <a:latin typeface="Times New Roman"/>
              </a:rPr>
              <a:t>utterances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ce9964"/>
              </a:buClr>
              <a:buFont typeface="Monotype Sort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(human operator with free interaction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Ask subjects to </a:t>
            </a:r>
            <a:r>
              <a:rPr b="0" lang="en-GB" sz="3000" spc="-1" strike="noStrike" u="sng">
                <a:solidFill>
                  <a:srgbClr val="402000"/>
                </a:solidFill>
                <a:uFillTx/>
                <a:latin typeface="Times New Roman"/>
              </a:rPr>
              <a:t>judge appropriateness</a:t>
            </a: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 of each “system’s” behaviour (set of subjects!!!)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3E4B-B252-4A9B-B475-9C85EEAC6B5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62A222-4DA5-48C4-B01F-8F69CC7EB2D5}" type="datetime3">
              <a:rPr lang="en-US"/>
              <a:t>July 31, 20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Experimental design (overview): How do human “bankers” behave?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7848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Production study with 12 human operators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lnSpc>
                <a:spcPct val="95000"/>
              </a:lnSpc>
              <a:spcBef>
                <a:spcPts val="3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studio recordings of all possible utterances (16)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lnSpc>
                <a:spcPct val="95000"/>
              </a:lnSpc>
              <a:spcBef>
                <a:spcPts val="3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interactive condition with </a:t>
            </a:r>
            <a:r>
              <a:rPr b="0" lang="en-GB" sz="2800" spc="-1" strike="noStrike" u="sng">
                <a:solidFill>
                  <a:srgbClr val="402000"/>
                </a:solidFill>
                <a:uFillTx/>
                <a:latin typeface="Times New Roman"/>
              </a:rPr>
              <a:t>restricted set of utterances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and believed customer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56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Evaluation of dialogue structure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lnSpc>
                <a:spcPct val="95000"/>
              </a:lnSpc>
              <a:spcBef>
                <a:spcPts val="3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especially check vs. query-Y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lnSpc>
                <a:spcPct val="95000"/>
              </a:lnSpc>
              <a:spcBef>
                <a:spcPts val="3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certainty/uncertainty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lnSpc>
                <a:spcPct val="95000"/>
              </a:lnSpc>
              <a:spcBef>
                <a:spcPts val="3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after previous correction by custome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56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Perception test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0D1B-AF69-4F21-B56F-88BF80C8759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C95C01-2F39-4627-AEEA-467A304D1103}" type="datetime3">
              <a:rPr lang="en-US"/>
              <a:t>July 31, 20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Why this setting?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848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Banking scenario very familiar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Domain small, but extendable (transferals)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Studio recordings as “no context condition”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Restricted set of utterances to simulate real systems and to </a:t>
            </a:r>
            <a:r>
              <a:rPr b="0" lang="en-GB" sz="3000" spc="-1" strike="noStrike" u="sng">
                <a:solidFill>
                  <a:srgbClr val="402000"/>
                </a:solidFill>
                <a:uFillTx/>
                <a:latin typeface="Times New Roman"/>
              </a:rPr>
              <a:t>exclude other factors</a:t>
            </a: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 that signal cooperation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adaptation to lexical and syntactic forms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adaptation to utterance length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different customers to exclude adaptation to voice characteristics, f</a:t>
            </a:r>
            <a:r>
              <a:rPr b="0" lang="en-GB" sz="26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,...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EAD1-DD52-40D9-8362-5E4C79DEF07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C0A493-8399-4297-A6B1-76A3880C0C22}" type="datetime3">
              <a:rPr lang="en-US"/>
              <a:t>July 31, 20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Collecting and preparing “customer” data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Limited domain WoZ system with bad performance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094B-43DA-40F1-B1CE-5540F17591B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A9AA91-C475-45A9-9191-6E3AA4DA07AC}" type="datetime3">
              <a:rPr lang="en-US"/>
              <a:t>July 31, 20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Collecting and preparing “customer” data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Limited domain WoZ system with bad performance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2819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Deposit or withdraw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2743200"/>
            <a:ext cx="3048120" cy="53352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3581280"/>
            <a:ext cx="2819160" cy="45720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3581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How much withdraw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3581280"/>
            <a:ext cx="2743200" cy="45720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35812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How much deposit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44197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Check amount &amp; ac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4419720"/>
            <a:ext cx="3047760" cy="45720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53341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Please take your mone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5257800"/>
            <a:ext cx="3276720" cy="60948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53341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Please put money in cas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52880" y="5257800"/>
            <a:ext cx="3505320" cy="60948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48320" y="3352680"/>
            <a:ext cx="0" cy="2819520"/>
          </a:xfrm>
          <a:prstGeom prst="line">
            <a:avLst/>
          </a:prstGeom>
          <a:ln w="9360">
            <a:solidFill>
              <a:srgbClr val="402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20400" y="28195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Pardon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2743200"/>
            <a:ext cx="1295280" cy="60948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44197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Check amount &amp; ac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52880" y="4419720"/>
            <a:ext cx="3048120" cy="45720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414D-1286-4A09-9A3A-3C6A77A4D80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56C0CC-6B21-4294-92CF-CE0D7F1FA110}" type="datetime3">
              <a:rPr lang="en-US"/>
              <a:t>July 31, 20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Collecting and preparing “customer” data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Limited domain WoZ system with bad performance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Data collection: 5 customers (4 tasks)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Parts of these signals were distorted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amount of money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(I want to withdraw </a:t>
            </a:r>
            <a:r>
              <a:rPr b="0" lang="en-GB" sz="2400" spc="-1" strike="noStrike">
                <a:solidFill>
                  <a:srgbClr val="996633"/>
                </a:solidFill>
                <a:latin typeface="Times New Roman"/>
              </a:rPr>
              <a:t>2x  </a:t>
            </a: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DEM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3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action: withdraw or deposit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(I want to </a:t>
            </a:r>
            <a:r>
              <a:rPr b="0" lang="en-GB" sz="2400" spc="-1" strike="noStrike">
                <a:solidFill>
                  <a:srgbClr val="996633"/>
                </a:solidFill>
                <a:latin typeface="Times New Roman"/>
              </a:rPr>
              <a:t>xxx</a:t>
            </a: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 5000 DEM)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23880" y="464832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523880" y="3809880"/>
            <a:ext cx="3812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E743-6C13-4BE6-ACA7-8AB9A1BCBFC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17115E-E0C9-463B-87D3-D75F74CBBD99}" type="datetime3">
              <a:rPr lang="en-US"/>
              <a:t>July 31, 20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Constructing possible dialogues...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Dialogue interaction with 7 customers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Thinks to consider: 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(re)action of operator must be predictable 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customer sound files must be prepared for each possible reaction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customer’s utterances must fit (prosodically) into the dialogue (e.g. hyperarticulation in corrections)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402000"/>
                </a:solidFill>
                <a:uFillTx/>
                <a:latin typeface="Times New Roman"/>
              </a:rPr>
              <a:t>Problem</a:t>
            </a: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: customer reactions for free </a:t>
            </a: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interaction can not be simulated!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7FB6-9765-4304-AB9D-3EAAE35E2B3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286C13-58D2-4BB5-BFF3-87AB51A7DD7B}" type="datetime3">
              <a:rPr lang="en-US"/>
              <a:t>July 31, 20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Content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Introduction: what I did so far...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What is cooperation?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in general terms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in phonetic terms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402000"/>
                </a:solidFill>
                <a:uFillTx/>
                <a:latin typeface="Times New Roman"/>
              </a:rPr>
              <a:t>Plans from now on</a:t>
            </a: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: user behaviour in interaction with dialogue systems and human operators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Experiment: cooperative operators, ...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4A5D-EC25-49CC-A2D4-55AEB488D30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C2231B-6AB3-4732-85B2-1E12DAC04790}" type="datetime3">
              <a:rPr lang="en-US"/>
              <a:t>July 31, 20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Instruction of operators as bank assistants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Utterances restricted to set of utteranc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0040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Deposit or withdraw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2438280"/>
            <a:ext cx="3048120" cy="53352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3276720"/>
            <a:ext cx="2819160" cy="45720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3276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How much withdraw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3276720"/>
            <a:ext cx="2743200" cy="45720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32767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How much deposit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19320" y="41148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Check amount &amp; ac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4114800"/>
            <a:ext cx="3047760" cy="45720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5029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Please take your mone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4952880"/>
            <a:ext cx="3276720" cy="60984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5029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Please put money in cas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4952880"/>
            <a:ext cx="3505320" cy="60984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48320" y="3048120"/>
            <a:ext cx="0" cy="2819160"/>
          </a:xfrm>
          <a:prstGeom prst="line">
            <a:avLst/>
          </a:prstGeom>
          <a:ln w="9360">
            <a:solidFill>
              <a:srgbClr val="402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20400" y="25146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Pardon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438280"/>
            <a:ext cx="1295280" cy="60984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52880" y="4114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Check amount &amp; ac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52880" y="4114800"/>
            <a:ext cx="3048120" cy="45720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29AA-8BD6-49CC-8E96-8BA8DA3F8B1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C973C0-2567-4039-84E3-9BE217E4E942}" type="datetime3">
              <a:rPr lang="en-US"/>
              <a:t>July 31, 20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Stimuli and (expected) reactions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Amount not mentioned/distorted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I want to withdraw money”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I want to withdraw xxxx”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ce9964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402000"/>
                </a:solidFill>
                <a:latin typeface="Times New Roman"/>
              </a:rPr>
              <a:t>How much do you want to withdraw? (But with differing intonation)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I want to withdraw DEM 2xx”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ce9964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402000"/>
                </a:solidFill>
                <a:latin typeface="Times New Roman"/>
              </a:rPr>
              <a:t>You want to withdraw DEM 2000 (200), then? (query-YN-like, because of uncertainty)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00600" y="3733920"/>
            <a:ext cx="3886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d3333"/>
                </a:solidFill>
                <a:latin typeface="Times New Roman"/>
              </a:rPr>
              <a:t>Inappropriate intonation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52480" y="548640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d3333"/>
                </a:solidFill>
                <a:latin typeface="Times New Roman"/>
              </a:rPr>
              <a:t>Certain check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CE39-F22A-4420-97A7-91CD58EEC2F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1589A8-2AA7-4968-9204-16DF63E7A2F9}" type="datetime3">
              <a:rPr lang="en-US"/>
              <a:t>July 31, 20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Stimuli and (expected) reactions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Action distorted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“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I want to xxx money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“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I want to xxx DEM 5000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402000"/>
                </a:solidFill>
                <a:latin typeface="Times New Roman"/>
              </a:rPr>
              <a:t>Do you want to deposit or withdraw       money? 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(Do you want to deposit or withdraw DEM 5000 is no possibility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4952880"/>
            <a:ext cx="685800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cd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d3333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cd3333"/>
                </a:solidFill>
                <a:latin typeface="Times New Roman"/>
              </a:rPr>
              <a:t>How much do you want to deposit/withdraw?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d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d3333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cd3333"/>
                </a:solidFill>
                <a:latin typeface="Times New Roman"/>
              </a:rPr>
              <a:t>Pardon?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EDB4-DEF5-4D08-B9AC-AE1BF22FEE6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8BD26A-0ACC-4AC6-996D-B1B8EA7C57E7}" type="datetime3">
              <a:rPr lang="en-US"/>
              <a:t>July 31, 20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8153280" y="1066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7" name="csW-YN" descr=""/>
          <p:cNvPicPr/>
          <p:nvPr/>
        </p:nvPicPr>
        <p:blipFill>
          <a:blip r:embed="rId2"/>
          <a:stretch/>
        </p:blipFill>
        <p:spPr>
          <a:xfrm>
            <a:off x="1066680" y="533520"/>
            <a:ext cx="7086600" cy="5932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3429000" y="2666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7391520" y="2743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0768-A1DF-4608-A8D7-B658F224CBAB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2552C4-409D-4190-9467-427CF49EF6FB}" type="datetime3">
              <a:rPr lang="en-US"/>
              <a:t>July 31, 20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Stimuli and (expected) reactions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Check after user correction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apologising impression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Query-W after user correction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action distorted: shift from question particle to deposit or withdraw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Repeated misunderstanding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change intonation of “pardon?”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5334120"/>
            <a:ext cx="6095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d3333"/>
                </a:solidFill>
                <a:latin typeface="Times New Roman"/>
              </a:rPr>
              <a:t>add explain to “pardon?”, react with a check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48320" y="3809880"/>
            <a:ext cx="2514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d3333"/>
                </a:solidFill>
                <a:latin typeface="Times New Roman"/>
              </a:rPr>
              <a:t>did not happen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EF60-93A7-4D88-956E-2FF2DB199B5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66CDBD-F379-4753-BD99-1953CCFD4C80}" type="datetime3">
              <a:rPr lang="en-US"/>
              <a:t>July 31, 20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Reasons for not being cooperative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Humans </a:t>
            </a:r>
            <a:r>
              <a:rPr b="1" lang="en-GB" sz="3000" spc="-1" strike="noStrike">
                <a:solidFill>
                  <a:srgbClr val="402000"/>
                </a:solidFill>
                <a:latin typeface="Times New Roman"/>
              </a:rPr>
              <a:t>are not</a:t>
            </a: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 cooperative (v. map task)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Situation too unnatura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05600" indent="-27144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no real customers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705600" indent="-27144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permitted utterances normally not actively used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Task too complicated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05600" indent="-27144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too less time to get used to utterances, i.e. finding     the fitting one poses problems (mapping problem)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705600" indent="-27144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signal quality of customers too poor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Operators indeed understood every customer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9599-0358-4162-A951-2A0DBF530E4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48E32C-FB91-4440-8847-0621338F3DBB}" type="datetime3">
              <a:rPr lang="en-US"/>
              <a:t>July 31, 20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Possible solutions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Assessment of signal quality: ratings from 1 to 6 after each dialogue (=&gt; very poor rates)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Increase familiarity with utterances: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fist: role games with experimenter (maybe with changed roles)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first ratings of appropriateness, cooperation, etc. of other operators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two runs, discussing problems of first run in between (real customers no more believed)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7FF1-CA15-4028-9DD2-6D418FD11E8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30A8C7-CDBB-4ECD-92DE-E657E42D5350}" type="datetime3">
              <a:rPr lang="en-US"/>
              <a:t>July 31, 20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Which “behaviour” is appropriate for dialogue systems?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Should systems behave like humans?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Assessment of cooperation, appropriateness, etc. under 2 conditions: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assuming that human-human interaction is judged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assuming that man-machine interaction is judged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3BF0-97F5-4A36-917C-0CC95B6D706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4C1723-A499-418C-9755-737568ECD09E}" type="datetime3">
              <a:rPr lang="en-US"/>
              <a:t>July 31, 20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Assessment of cooperation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User satisfaction in interaction with dialogues (e.g. PARADISE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M.Walker</a:t>
            </a: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): mixed-initiative vs. system-initiative,...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Assessing appropriateness, naturalness of synthetic speech output (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cf J.House, S.Hawkins</a:t>
            </a: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How to tease dialogue behaviour and prosodic cues to cooperation apart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4289-0DD0-4331-B729-3E130C3BBF0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973159-E879-4CF8-8312-69B122C150D3}" type="datetime3">
              <a:rPr lang="en-US"/>
              <a:t>July 31, 20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Perception test I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Comparison between studio and interactive behaviour of </a:t>
            </a:r>
            <a:r>
              <a:rPr b="0" i="1" lang="en-GB" sz="3000" spc="-1" strike="noStrike">
                <a:solidFill>
                  <a:srgbClr val="402000"/>
                </a:solidFill>
                <a:latin typeface="Times New Roman"/>
              </a:rPr>
              <a:t>same dialogue</a:t>
            </a: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 with respect to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cooperation, friendliness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naturalness, appropriateness of operator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649"/>
              </a:spcBef>
              <a:buClr>
                <a:srgbClr val="ce9964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only possible for selected cooperative utterances!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Interactive conditions contain a lot of extralinguistic noise (breathing, smacking, long pauses) =&gt; “clean” them before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interactive: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ce9964"/>
                </a:solidFill>
                <a:latin typeface="Monotype Sorts"/>
                <a:ea typeface="Monotype Sorts"/>
              </a:rPr>
              <a:t>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studio: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429000" y="5562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172200" y="55627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4C07-1B54-4F43-B33E-7563F9559CF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A2E726-E641-4C2F-A64E-E496023DDECC}" type="datetime3">
              <a:rPr lang="en-US"/>
              <a:t>July 31, 20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So far: Error-resolution in computer-directed speech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Hyperarticulation to correct machines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646200" indent="-248400">
              <a:spcBef>
                <a:spcPts val="649"/>
              </a:spcBef>
              <a:buClr>
                <a:srgbClr val="ce9964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Increased error-rates in ASR-systems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Find solutions for ASR to cover changes in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646200" indent="-24840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en-GB" sz="26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-movement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646200" indent="-24840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intensity/spectral tilt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646200" indent="-24840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duration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646200" indent="-24840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segmental realisation, e.g. formant values, 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646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9E3B-28B9-4868-BA4E-2538602DB3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F8AD4D-C95B-47C8-9017-2594A78F287D}" type="datetime3">
              <a:rPr lang="en-US"/>
              <a:t>July 31, 20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Perception test II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Comparison of dialogues with </a:t>
            </a:r>
            <a:r>
              <a:rPr b="0" i="1" lang="en-GB" sz="3000" spc="-1" strike="noStrike">
                <a:solidFill>
                  <a:srgbClr val="402000"/>
                </a:solidFill>
                <a:latin typeface="Times New Roman"/>
              </a:rPr>
              <a:t>same goal</a:t>
            </a: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 but different operators to evaluate different (prosodic and non-prosodic ???) strategies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649"/>
              </a:spcBef>
              <a:buClr>
                <a:srgbClr val="ce9964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too many variables: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dialectal influence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male/female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voice characteristics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Examples: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649"/>
              </a:spcBef>
              <a:buClr>
                <a:srgbClr val="ce9964"/>
              </a:buClr>
              <a:buFont typeface="Monotype Sorts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ce9964"/>
                </a:solidFill>
                <a:latin typeface="Monotype Sorts"/>
                <a:ea typeface="Monotype Sorts"/>
              </a:rPr>
              <a:t>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981080" y="556272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267080" y="556272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6822-7D43-4104-9849-ABB1617E624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54FE0A-B35C-44A4-B66E-63D356634374}" type="datetime3">
              <a:rPr lang="en-US"/>
              <a:t>July 31, 20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Remaining questions....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How to build a “natural”, but controllable environment for collecting cooperative operator data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First perform a map-task to investigate cooperation in human-human dialogue? (changed roles?)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FABE-78C8-4952-9177-245853085C3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3864E6-1F69-4D47-AC65-906A78AFB437}" type="datetime3">
              <a:rPr lang="en-US"/>
              <a:t>July 31, 20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Pilot study in speech-operated lift 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Evoke corrections in several focus conditions, triggered by system’s output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broad focus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narrow focus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contrastive focus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Broad focus not possible in that domain!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Concept of contrastive vs. narrow very vague  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For phonetic analysis too poor signal quality (noise, reverberation, off-talk, ...)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0784-B14C-4AFE-B15C-4DD5B2B745B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1A3ECD-F2C3-4D8C-95CC-B19B5A364C97}" type="datetime3">
              <a:rPr lang="en-US"/>
              <a:t>July 31, 20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Loophole -- possible ways to go...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New recordings with more elaborated system to evoke hyperarticulation in several contexts (and focus conditions)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649"/>
              </a:spcBef>
              <a:buClr>
                <a:srgbClr val="ce9964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already quite thoroughly analysed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Except for hyperarticulation various forms of “emotions” and attitudes (uncertainty, anger), e.g. calling contour in addressing the lift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Analysis of global behaviour of users, because...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B9DA-240C-4042-ADAB-EDB1D2B3E8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B5287E-D173-4DD3-A08F-60EA0619A384}" type="datetime3">
              <a:rPr lang="en-US"/>
              <a:t>July 31, 20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Communicative situation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Computer-directed speech differs from “normal” conversation (back-channels, interruptions, visual co-presence)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Conceptual processing is </a:t>
            </a:r>
            <a:r>
              <a:rPr b="0" lang="en-GB" sz="3000" spc="-1" strike="noStrike" u="sng">
                <a:solidFill>
                  <a:srgbClr val="402000"/>
                </a:solidFill>
                <a:uFillTx/>
                <a:latin typeface="Times New Roman"/>
              </a:rPr>
              <a:t>partner-dependent</a:t>
            </a: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 (e.g. mutual beliefs, grounding)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Error-resolution demands cooperation!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Emotional component (relationship to computer, wrt. greetings, politeness, etc.)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1C9C-1056-45BD-956D-32C4107F34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E11BB9-CEAB-40FD-99A5-3D4D31854457}" type="datetime3">
              <a:rPr lang="en-US"/>
              <a:t>July 31, 20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Now: Analysis of human behaviour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56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Interest in human behaviour when interacting with machines (as opposed to human partners)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56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How would “human operators” act?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56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How can </a:t>
            </a:r>
            <a:r>
              <a:rPr b="1" lang="en-GB" sz="3000" spc="-1" strike="noStrike">
                <a:solidFill>
                  <a:srgbClr val="402000"/>
                </a:solidFill>
                <a:latin typeface="Times New Roman"/>
              </a:rPr>
              <a:t>cooperation</a:t>
            </a: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 be evoked in dialogue?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56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How can cooperation be assessed (in dialogue systems)?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9198-1AD7-41F5-B1BA-0277E345A8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F81AF3-CA02-476C-91D4-26850867A074}" type="datetime3">
              <a:rPr lang="en-US"/>
              <a:t>July 31, 20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“</a:t>
            </a: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Definition” of Cooperation </a:t>
            </a:r>
            <a:r>
              <a:rPr b="0" lang="en-GB" sz="2000" spc="-1" strike="noStrike">
                <a:solidFill>
                  <a:srgbClr val="996633"/>
                </a:solidFill>
                <a:latin typeface="Comic Sans MS"/>
              </a:rPr>
              <a:t>(Allwood 76)</a:t>
            </a:r>
            <a:endParaRPr b="0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Take partner in cognitive consideration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Joint purpose (of understanding)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Ethical consideration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not to hurt each othe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not to force each othe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facilitate rational behaviou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Trust to act in accordance with above points 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0942-7770-43B8-BCD7-105C042002B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FF39B8-8BB6-42F7-AB98-827D47BDB56E}" type="datetime3">
              <a:rPr lang="en-US"/>
              <a:t>July 31, 20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Phonetic Realisation of Cooperation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70000" indent="-27000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Expressing </a:t>
            </a:r>
            <a:r>
              <a:rPr b="0" lang="en-GB" sz="3000" spc="-1" strike="noStrike" u="sng">
                <a:solidFill>
                  <a:srgbClr val="402000"/>
                </a:solidFill>
                <a:uFillTx/>
                <a:latin typeface="Times New Roman"/>
              </a:rPr>
              <a:t>degree</a:t>
            </a: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 of “understanding”, either by appropriate dialogues act or prosody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360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cinema info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Sie möchten in N. den Film “..” SEHEN?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453600">
              <a:spcBef>
                <a:spcPts val="49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train timetable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Wann möchten Sie von SB nach HH fahren?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70000" indent="-27000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Expressing </a:t>
            </a:r>
            <a:r>
              <a:rPr b="0" lang="en-GB" sz="3000" spc="-1" strike="noStrike" u="sng">
                <a:solidFill>
                  <a:srgbClr val="402000"/>
                </a:solidFill>
                <a:uFillTx/>
                <a:latin typeface="Times New Roman"/>
              </a:rPr>
              <a:t>what part</a:t>
            </a: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 of information was not understood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360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Shift focus to appropriate position 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45360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deaccent understood information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23880" y="289548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3352680"/>
            <a:ext cx="381240" cy="3812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rot="19764600">
            <a:off x="6477480" y="495216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e9964"/>
                </a:solidFill>
                <a:latin typeface="Times New Roman"/>
              </a:rPr>
              <a:t>Importance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9764000">
            <a:off x="6514920" y="5017680"/>
            <a:ext cx="1904760" cy="380880"/>
          </a:xfrm>
          <a:prstGeom prst="rect">
            <a:avLst/>
          </a:prstGeom>
          <a:noFill/>
          <a:ln w="2844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6A71-1928-4E41-B954-D9F68DC3C5F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0EEFB6-829E-42A7-A6AB-5B92F16EEA64}" type="datetime3">
              <a:rPr lang="en-US"/>
              <a:t>July 31, 20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8T10:34:49Z</dcterms:created>
  <dc:creator>bebr</dc:creator>
  <dc:description/>
  <dc:language>en-US</dc:language>
  <cp:lastModifiedBy>bebr</cp:lastModifiedBy>
  <cp:lastPrinted>2001-11-18T12:13:20Z</cp:lastPrinted>
  <dcterms:modified xsi:type="dcterms:W3CDTF">2001-12-03T08:53:13Z</dcterms:modified>
  <cp:revision>65</cp:revision>
  <dc:subject/>
  <dc:title>Users in Man-man and Man-machine interaction</dc:title>
</cp:coreProperties>
</file>